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394-1F6E-4BA9-85DA-523168A8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3A4-760D-43DF-95A5-C80532B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41B-B513-4C0E-A0C2-63C24906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915-E037-47C8-8E7D-E9C26322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E385-1149-42EE-AEC6-575D63BE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823F-7504-4D01-AE4A-361441CB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37C4-FF81-4666-944F-DCE760FD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206C-5501-446C-8F64-FF404997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12F-99B5-41F5-9533-ABBE5B97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D352-CC9C-46FA-83CD-A12B3C18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2EDA-A8A7-48F4-BD55-A8F1C5F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758-DD10-4115-A693-8367B8F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ED8E-7C90-4EB3-BD3D-DF61EAAB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6ADE-E5C9-4F9F-8ADB-D0557919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4516-57D8-452A-B94C-9C2D503F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658D-A740-4649-B737-721098D8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DB36-69C9-40F2-9817-26A28335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6DA-4F2E-4C50-B6E8-C87C1C5C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827-90C8-4932-8FA7-708F9DE0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667-77BC-43C8-ADE2-20670EEE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014-2260-4D3E-8026-47632E84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014-0043-4CD9-B112-095B4F2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0A5-088E-4AAB-A546-D6ADD9F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F3B-7568-4065-91B1-B68B5E65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E482-07A3-4249-A22B-FEF9BD384F25}" type="slidenum">
              <a:rPr b="0" lang="en-N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3C43-45CA-40C3-9048-AAA193A20276}" type="slidenum">
              <a:rPr b="0" lang="en-N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ight &amp; W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2 N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hievement Standard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Book reference: Chapters 12,13 &amp;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44F-B74D-4667-80F0-9380BB441F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300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6160" y="133344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top or peak of a transverse wave is called a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bottom or dip of a transverse wave is called a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601640" y="3703680"/>
            <a:ext cx="5816520" cy="2364840"/>
            <a:chOff x="1601640" y="3703680"/>
            <a:chExt cx="5816520" cy="2364840"/>
          </a:xfrm>
        </p:grpSpPr>
        <p:sp>
          <p:nvSpPr>
            <p:cNvPr id="192" name=""/>
            <p:cNvSpPr/>
            <p:nvPr/>
          </p:nvSpPr>
          <p:spPr>
            <a:xfrm>
              <a:off x="1601640" y="3703680"/>
              <a:ext cx="58165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4680" y="4870440"/>
              <a:ext cx="2381040" cy="1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4680" y="4070160"/>
              <a:ext cx="2381040" cy="1594440"/>
            </a:xfrm>
            <a:custGeom>
              <a:avLst/>
              <a:gdLst/>
              <a:ahLst/>
              <a:rect l="l" t="t" r="r" b="b"/>
              <a:pathLst>
                <a:path w="4301" h="2861">
                  <a:moveTo>
                    <a:pt x="0" y="1440"/>
                  </a:moveTo>
                  <a:cubicBezTo>
                    <a:pt x="360" y="720"/>
                    <a:pt x="720" y="0"/>
                    <a:pt x="1080" y="0"/>
                  </a:cubicBezTo>
                  <a:cubicBezTo>
                    <a:pt x="1440" y="0"/>
                    <a:pt x="1800" y="963"/>
                    <a:pt x="2160" y="1440"/>
                  </a:cubicBezTo>
                  <a:cubicBezTo>
                    <a:pt x="2520" y="1917"/>
                    <a:pt x="2883" y="2861"/>
                    <a:pt x="3240" y="2861"/>
                  </a:cubicBezTo>
                  <a:cubicBezTo>
                    <a:pt x="3597" y="2861"/>
                    <a:pt x="4127" y="1674"/>
                    <a:pt x="4301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35280" y="4875120"/>
              <a:ext cx="2383200" cy="1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6760" y="4083480"/>
              <a:ext cx="2381040" cy="1594080"/>
            </a:xfrm>
            <a:custGeom>
              <a:avLst/>
              <a:gdLst/>
              <a:ahLst/>
              <a:rect l="l" t="t" r="r" b="b"/>
              <a:pathLst>
                <a:path w="4301" h="2861">
                  <a:moveTo>
                    <a:pt x="0" y="1440"/>
                  </a:moveTo>
                  <a:cubicBezTo>
                    <a:pt x="360" y="720"/>
                    <a:pt x="720" y="0"/>
                    <a:pt x="1080" y="0"/>
                  </a:cubicBezTo>
                  <a:cubicBezTo>
                    <a:pt x="1440" y="0"/>
                    <a:pt x="1800" y="963"/>
                    <a:pt x="2160" y="1440"/>
                  </a:cubicBezTo>
                  <a:cubicBezTo>
                    <a:pt x="2520" y="1917"/>
                    <a:pt x="2883" y="2861"/>
                    <a:pt x="3240" y="2861"/>
                  </a:cubicBezTo>
                  <a:cubicBezTo>
                    <a:pt x="3597" y="2861"/>
                    <a:pt x="4127" y="1674"/>
                    <a:pt x="4301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6040" y="3703680"/>
              <a:ext cx="119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C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8680" y="5608800"/>
              <a:ext cx="18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rou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85C-5979-49A5-8B6A-F3DABF380E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3008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09200" y="1257480"/>
            <a:ext cx="40006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ves generated from a point source travel outwards in concentric circles calle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wavefront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line in the direction of propagation is called a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ra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27720" y="3244680"/>
            <a:ext cx="4330440" cy="2462400"/>
            <a:chOff x="4527720" y="3244680"/>
            <a:chExt cx="4330440" cy="2462400"/>
          </a:xfrm>
        </p:grpSpPr>
        <p:sp>
          <p:nvSpPr>
            <p:cNvPr id="202" name=""/>
            <p:cNvSpPr/>
            <p:nvPr/>
          </p:nvSpPr>
          <p:spPr>
            <a:xfrm>
              <a:off x="4527720" y="3244680"/>
              <a:ext cx="4330440" cy="246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638240" y="3389400"/>
              <a:ext cx="4022640" cy="2106360"/>
              <a:chOff x="4638240" y="3389400"/>
              <a:chExt cx="4022640" cy="210636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638240" y="3389400"/>
                <a:ext cx="4022640" cy="2106360"/>
                <a:chOff x="4638240" y="3389400"/>
                <a:chExt cx="4022640" cy="21063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632200" y="3508200"/>
                  <a:ext cx="1826280" cy="1960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50080" y="3876480"/>
                  <a:ext cx="1177200" cy="1276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57520" y="4179960"/>
                  <a:ext cx="612360" cy="65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514920" y="4456080"/>
                  <a:ext cx="122400" cy="131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575760" y="3744360"/>
                  <a:ext cx="945000" cy="76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89080" y="4573440"/>
                  <a:ext cx="563400" cy="92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6938280" y="4949280"/>
                  <a:ext cx="97560" cy="170280"/>
                  <a:chOff x="6938280" y="4949280"/>
                  <a:chExt cx="97560" cy="1702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V="1">
                    <a:off x="6950520" y="5041080"/>
                    <a:ext cx="85320" cy="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flipV="1">
                    <a:off x="6938280" y="4949280"/>
                    <a:ext cx="8532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097760" y="4106520"/>
                  <a:ext cx="97560" cy="171000"/>
                  <a:chOff x="7097760" y="4106520"/>
                  <a:chExt cx="97560" cy="1710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V="1">
                    <a:off x="7110000" y="4198680"/>
                    <a:ext cx="85320" cy="7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flipV="1">
                    <a:off x="7097760" y="4106520"/>
                    <a:ext cx="85320" cy="10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5521320" y="3508200"/>
                  <a:ext cx="103068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46160" y="3863880"/>
                  <a:ext cx="760320" cy="316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638240" y="3389400"/>
                  <a:ext cx="1705320" cy="434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</a:rPr>
                    <a:t>Wavefro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5805360" y="3494160"/>
                  <a:ext cx="72144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05360" y="3625920"/>
                  <a:ext cx="68436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67280" y="3548160"/>
                  <a:ext cx="993600" cy="73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</a:rPr>
                    <a:t>Ra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6220800" y="4271760"/>
                <a:ext cx="37980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B8A-7FC2-4BB7-ACD4-3B029631AC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Equ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s is the equation that relates wave speed, frequency and 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” is sometimes substituted for “v” when the wave is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11360" y="2133720"/>
                <a:ext cx="37591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f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401-2164-449C-B9DC-7010A04EC0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Reflection &amp; Transmission of Pul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400" y="12441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en a pulse moves from one medium into another, some of the pulse is reflected and some is trans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98600" y="2801880"/>
            <a:ext cx="6502320" cy="1573200"/>
            <a:chOff x="1398600" y="2801880"/>
            <a:chExt cx="6502320" cy="1573200"/>
          </a:xfrm>
        </p:grpSpPr>
        <p:sp>
          <p:nvSpPr>
            <p:cNvPr id="230" name=""/>
            <p:cNvSpPr/>
            <p:nvPr/>
          </p:nvSpPr>
          <p:spPr>
            <a:xfrm>
              <a:off x="1398600" y="2801880"/>
              <a:ext cx="6502320" cy="15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474200" y="2844720"/>
              <a:ext cx="6342120" cy="1472400"/>
              <a:chOff x="1474200" y="2844720"/>
              <a:chExt cx="6342120" cy="147240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1474200" y="3173040"/>
                <a:ext cx="6342120" cy="1144080"/>
                <a:chOff x="1474200" y="3173040"/>
                <a:chExt cx="6342120" cy="11440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75720" y="3173040"/>
                  <a:ext cx="6240600" cy="636840"/>
                  <a:chOff x="1575720" y="3173040"/>
                  <a:chExt cx="6240600" cy="6368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821960" y="3173040"/>
                    <a:ext cx="187164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737080" y="3502440"/>
                    <a:ext cx="1526760" cy="30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1575720" y="3259080"/>
                    <a:ext cx="6240600" cy="228600"/>
                    <a:chOff x="1575720" y="3259080"/>
                    <a:chExt cx="6240600" cy="22860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821960" y="3486960"/>
                      <a:ext cx="5994360" cy="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772000" y="3487680"/>
                      <a:ext cx="139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197240" y="3487680"/>
                      <a:ext cx="3155760" cy="0"/>
                    </a:xfrm>
                    <a:prstGeom prst="line">
                      <a:avLst/>
                    </a:prstGeom>
                    <a:ln w="41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2581200" y="3259080"/>
                      <a:ext cx="941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1575720" y="3480480"/>
                      <a:ext cx="241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1474200" y="3709800"/>
                  <a:ext cx="6176880" cy="607320"/>
                  <a:chOff x="1474200" y="3709800"/>
                  <a:chExt cx="6176880" cy="60732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694880" y="3830400"/>
                    <a:ext cx="187128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668600" y="3709800"/>
                    <a:ext cx="1526760" cy="30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656720" y="4023720"/>
                    <a:ext cx="5994360" cy="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215680" y="4024080"/>
                    <a:ext cx="1972080" cy="0"/>
                  </a:xfrm>
                  <a:prstGeom prst="line">
                    <a:avLst/>
                  </a:prstGeom>
                  <a:ln w="41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1753920" y="4167360"/>
                    <a:ext cx="941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1474200" y="4024080"/>
                    <a:ext cx="1145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523320" y="4024080"/>
                    <a:ext cx="50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329000" y="3837600"/>
                    <a:ext cx="187128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126400" y="4045680"/>
                    <a:ext cx="1259640" cy="271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3994200" y="4016880"/>
                    <a:ext cx="330480" cy="6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139000" y="3888360"/>
                    <a:ext cx="76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4" name=""/>
              <p:cNvSpPr/>
              <p:nvPr/>
            </p:nvSpPr>
            <p:spPr>
              <a:xfrm>
                <a:off x="2594160" y="2844720"/>
                <a:ext cx="39319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600" spc="-1" strike="noStrike">
                    <a:solidFill>
                      <a:srgbClr val="000000"/>
                    </a:solidFill>
                    <a:latin typeface="Times New Roman"/>
                  </a:rPr>
                  <a:t>Light to Heavy St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1424160" y="4540320"/>
            <a:ext cx="6502320" cy="1512720"/>
            <a:chOff x="1424160" y="4540320"/>
            <a:chExt cx="6502320" cy="1512720"/>
          </a:xfrm>
        </p:grpSpPr>
        <p:sp>
          <p:nvSpPr>
            <p:cNvPr id="256" name=""/>
            <p:cNvSpPr/>
            <p:nvPr/>
          </p:nvSpPr>
          <p:spPr>
            <a:xfrm>
              <a:off x="1424160" y="4540320"/>
              <a:ext cx="65023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499760" y="4583160"/>
              <a:ext cx="6317280" cy="1426320"/>
              <a:chOff x="1499760" y="4583160"/>
              <a:chExt cx="6317280" cy="14263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499760" y="4833360"/>
                <a:ext cx="6317280" cy="1176120"/>
                <a:chOff x="1499760" y="4833360"/>
                <a:chExt cx="6317280" cy="117612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1572840" y="4833360"/>
                  <a:ext cx="6244200" cy="652680"/>
                  <a:chOff x="1572840" y="4833360"/>
                  <a:chExt cx="6244200" cy="6526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1822320" y="4833360"/>
                    <a:ext cx="1871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737440" y="5170680"/>
                    <a:ext cx="1526760" cy="315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1572840" y="4919760"/>
                    <a:ext cx="6244200" cy="229320"/>
                    <a:chOff x="1572840" y="4919760"/>
                    <a:chExt cx="6244200" cy="22932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822320" y="5148360"/>
                      <a:ext cx="5994720" cy="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769120" y="5149080"/>
                      <a:ext cx="1399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194360" y="5149080"/>
                      <a:ext cx="31557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2581560" y="4919760"/>
                      <a:ext cx="941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>
                      <a:off x="1572840" y="5141880"/>
                      <a:ext cx="241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1499760" y="5499720"/>
                  <a:ext cx="6177240" cy="509760"/>
                  <a:chOff x="1499760" y="5499720"/>
                  <a:chExt cx="6177240" cy="5097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V="1">
                    <a:off x="1682280" y="5499360"/>
                    <a:ext cx="18716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592280" y="5701320"/>
                    <a:ext cx="1526760" cy="308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682280" y="5686200"/>
                    <a:ext cx="5994720" cy="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5330160" y="5686920"/>
                    <a:ext cx="197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>
                    <a:off x="1881360" y="5514840"/>
                    <a:ext cx="941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1499760" y="5686920"/>
                    <a:ext cx="1145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548880" y="5686920"/>
                    <a:ext cx="508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354560" y="5500080"/>
                    <a:ext cx="187128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5126400" y="5701320"/>
                    <a:ext cx="1259640" cy="27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V="1">
                    <a:off x="4044960" y="5684760"/>
                    <a:ext cx="330840" cy="6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164560" y="5550840"/>
                    <a:ext cx="76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>
                <a:off x="2899800" y="4583160"/>
                <a:ext cx="474624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600" spc="-1" strike="noStrike">
                    <a:solidFill>
                      <a:srgbClr val="000000"/>
                    </a:solidFill>
                    <a:latin typeface="Times New Roman"/>
                  </a:rPr>
                  <a:t>Heavy to Light St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g 224 Questions 14A 1-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F57-CA87-4DF3-ACA4-EBC5B25AA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4200" y="93348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ves will bounce (reflect) off a flat surface at the same angle at which they hi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line at right angles to the surface is called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303800" y="3397320"/>
            <a:ext cx="3227040" cy="3076560"/>
            <a:chOff x="4303800" y="3397320"/>
            <a:chExt cx="3227040" cy="3076560"/>
          </a:xfrm>
        </p:grpSpPr>
        <p:grpSp>
          <p:nvGrpSpPr>
            <p:cNvPr id="284" name=""/>
            <p:cNvGrpSpPr/>
            <p:nvPr/>
          </p:nvGrpSpPr>
          <p:grpSpPr>
            <a:xfrm>
              <a:off x="4303800" y="3397320"/>
              <a:ext cx="3227040" cy="3076560"/>
              <a:chOff x="4303800" y="3397320"/>
              <a:chExt cx="3227040" cy="307656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4303800" y="3397320"/>
                <a:ext cx="3227040" cy="3076560"/>
                <a:chOff x="4303800" y="3397320"/>
                <a:chExt cx="3227040" cy="30765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303800" y="3397320"/>
                  <a:ext cx="3227040" cy="3076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5266440" y="3565080"/>
                  <a:ext cx="1856520" cy="2538360"/>
                  <a:chOff x="5266440" y="3565080"/>
                  <a:chExt cx="1856520" cy="25383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5266440" y="3565080"/>
                    <a:ext cx="1623600" cy="1511640"/>
                    <a:chOff x="5266440" y="3565080"/>
                    <a:chExt cx="1623600" cy="151164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flipH="1">
                      <a:off x="5266440" y="356508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>
                      <a:off x="5428440" y="372672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5590800" y="388872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>
                      <a:off x="5753160" y="4050720"/>
                      <a:ext cx="65016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>
                      <a:off x="5915160" y="421272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>
                      <a:off x="6077520" y="437436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>
                      <a:off x="6239880" y="4536360"/>
                      <a:ext cx="65016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374800" y="4321080"/>
                    <a:ext cx="1623600" cy="1511280"/>
                    <a:chOff x="5374800" y="4321080"/>
                    <a:chExt cx="1623600" cy="151128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flipH="1" flipV="1">
                      <a:off x="5374800" y="529236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flipH="1" flipV="1">
                      <a:off x="5536800" y="513072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H="1" flipV="1">
                      <a:off x="5699160" y="496872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flipV="1">
                      <a:off x="5861520" y="4806720"/>
                      <a:ext cx="65016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 flipV="1">
                      <a:off x="6023520" y="464508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 flipV="1">
                      <a:off x="6185880" y="448308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flipV="1">
                      <a:off x="6348240" y="4321080"/>
                      <a:ext cx="65016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4" name=""/>
                  <p:cNvSpPr/>
                  <p:nvPr/>
                </p:nvSpPr>
                <p:spPr>
                  <a:xfrm>
                    <a:off x="5483880" y="3889800"/>
                    <a:ext cx="1081800" cy="917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566040" y="3565080"/>
                    <a:ext cx="0" cy="25383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V="1">
                    <a:off x="5537520" y="4807440"/>
                    <a:ext cx="1028160" cy="862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483880" y="3889800"/>
                    <a:ext cx="649080" cy="539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5970240" y="4807800"/>
                    <a:ext cx="595080" cy="48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581520" y="3972240"/>
                    <a:ext cx="541440" cy="1458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 flipH="1">
                  <a:off x="4408200" y="4797360"/>
                  <a:ext cx="215748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6576120" y="3597120"/>
                <a:ext cx="582120" cy="246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395600" y="44672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589-552D-443D-94F2-C8BA76AADE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urved Refl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253040" y="2233440"/>
            <a:ext cx="3894120" cy="3049920"/>
            <a:chOff x="4253040" y="2233440"/>
            <a:chExt cx="3894120" cy="3049920"/>
          </a:xfrm>
        </p:grpSpPr>
        <p:sp>
          <p:nvSpPr>
            <p:cNvPr id="315" name=""/>
            <p:cNvSpPr/>
            <p:nvPr/>
          </p:nvSpPr>
          <p:spPr>
            <a:xfrm>
              <a:off x="4253040" y="2233440"/>
              <a:ext cx="3894120" cy="30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862960" y="2475000"/>
              <a:ext cx="2237400" cy="2401920"/>
              <a:chOff x="5862960" y="2475000"/>
              <a:chExt cx="2237400" cy="2401920"/>
            </a:xfrm>
          </p:grpSpPr>
          <p:sp>
            <p:nvSpPr>
              <p:cNvPr id="317" name=""/>
              <p:cNvSpPr/>
              <p:nvPr/>
            </p:nvSpPr>
            <p:spPr>
              <a:xfrm>
                <a:off x="5862960" y="2603520"/>
                <a:ext cx="2208240" cy="2140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25880" y="2475000"/>
                <a:ext cx="1374480" cy="240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120000" y="2493720"/>
              <a:ext cx="1778040" cy="2350440"/>
              <a:chOff x="6120000" y="2493720"/>
              <a:chExt cx="1778040" cy="2350440"/>
            </a:xfrm>
          </p:grpSpPr>
          <p:sp>
            <p:nvSpPr>
              <p:cNvPr id="320" name=""/>
              <p:cNvSpPr/>
              <p:nvPr/>
            </p:nvSpPr>
            <p:spPr>
              <a:xfrm>
                <a:off x="6120000" y="2810160"/>
                <a:ext cx="1762920" cy="1732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09400" y="2493720"/>
                <a:ext cx="1088640" cy="235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73080" y="2860560"/>
              <a:ext cx="1297800" cy="1698480"/>
              <a:chOff x="6373080" y="2860560"/>
              <a:chExt cx="1297800" cy="1698480"/>
            </a:xfrm>
          </p:grpSpPr>
          <p:sp>
            <p:nvSpPr>
              <p:cNvPr id="323" name=""/>
              <p:cNvSpPr/>
              <p:nvPr/>
            </p:nvSpPr>
            <p:spPr>
              <a:xfrm>
                <a:off x="6373080" y="3089160"/>
                <a:ext cx="1286640" cy="125172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76360" y="2860560"/>
                <a:ext cx="794520" cy="16984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6893280" y="2941560"/>
              <a:ext cx="883800" cy="16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45000" y="3095280"/>
              <a:ext cx="0" cy="12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74280" y="3091680"/>
              <a:ext cx="0" cy="12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05000" y="3103560"/>
              <a:ext cx="0" cy="12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34640" y="3113280"/>
              <a:ext cx="0" cy="12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46560" y="3420360"/>
              <a:ext cx="134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886000" y="2832840"/>
              <a:ext cx="570240" cy="55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79680" y="4094640"/>
              <a:ext cx="134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941080" y="4095720"/>
              <a:ext cx="58248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7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Reflectors – make the wave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diverg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spread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03F-22DD-4AAA-98BA-829453F44B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urved Refl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7520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cave reflectors – make the wav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verg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meet at a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079960" y="1835280"/>
            <a:ext cx="3452760" cy="3311280"/>
            <a:chOff x="5079960" y="1835280"/>
            <a:chExt cx="3452760" cy="3311280"/>
          </a:xfrm>
        </p:grpSpPr>
        <p:sp>
          <p:nvSpPr>
            <p:cNvPr id="338" name=""/>
            <p:cNvSpPr/>
            <p:nvPr/>
          </p:nvSpPr>
          <p:spPr>
            <a:xfrm>
              <a:off x="5079960" y="1835280"/>
              <a:ext cx="3452760" cy="33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5493960" y="1940040"/>
              <a:ext cx="2692440" cy="2980800"/>
              <a:chOff x="5493960" y="1940040"/>
              <a:chExt cx="2692440" cy="29808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578560" y="1940040"/>
                <a:ext cx="2607840" cy="2976120"/>
                <a:chOff x="5578560" y="1940040"/>
                <a:chExt cx="2607840" cy="2976120"/>
              </a:xfrm>
            </p:grpSpPr>
            <p:sp>
              <p:nvSpPr>
                <p:cNvPr id="341" name=""/>
                <p:cNvSpPr/>
                <p:nvPr/>
              </p:nvSpPr>
              <p:spPr>
                <a:xfrm flipH="1">
                  <a:off x="5600160" y="2340720"/>
                  <a:ext cx="2585880" cy="2193480"/>
                </a:xfrm>
                <a:prstGeom prst="ellipse">
                  <a:avLst/>
                </a:prstGeom>
                <a:solidFill>
                  <a:srgbClr val="ffffff">
                    <a:alpha val="85000"/>
                  </a:srgbClr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5578200" y="1940040"/>
                  <a:ext cx="1596600" cy="2976120"/>
                </a:xfrm>
                <a:prstGeom prst="rect">
                  <a:avLst/>
                </a:prstGeom>
                <a:solidFill>
                  <a:srgbClr val="ffffff">
                    <a:alpha val="8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6190200" y="2791080"/>
                <a:ext cx="1538640" cy="13046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21120" y="3156840"/>
                <a:ext cx="693360" cy="588240"/>
              </a:xfrm>
              <a:prstGeom prst="ellipse">
                <a:avLst/>
              </a:prstGeom>
              <a:solidFill>
                <a:srgbClr val="ffffff">
                  <a:alpha val="76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93960" y="2251800"/>
                <a:ext cx="1481040" cy="252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36600" y="1963800"/>
                <a:ext cx="506880" cy="71532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97360" y="4174560"/>
                <a:ext cx="562680" cy="7462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517160" y="249372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063560" y="2487600"/>
                <a:ext cx="0" cy="186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12840" y="250560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159240" y="251964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07640" y="2968560"/>
                <a:ext cx="251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63800" y="3953160"/>
                <a:ext cx="241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94800" y="2822040"/>
                <a:ext cx="0" cy="125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447960" y="2950560"/>
                <a:ext cx="1576440" cy="76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6410160" y="3062880"/>
                <a:ext cx="1583640" cy="90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6AF-9F24-4EA5-BDE5-B30E547614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bending of a wave as it goes from one medium in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a wave travels from one medium into another it’s speed al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the wave hits the boundary at an angle, one side will change speed before the other, skewing the wave around and changing it’s direction of propa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DC2-C4D2-4160-9DB4-005B00006E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906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418760"/>
            <a:ext cx="41720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cause the frequency of the wave is determined by the source, if the wave slows down, it’s wavelength must decrease. (And vice ver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781520" y="2200320"/>
            <a:ext cx="4019760" cy="2771640"/>
            <a:chOff x="4781520" y="2200320"/>
            <a:chExt cx="4019760" cy="2771640"/>
          </a:xfrm>
        </p:grpSpPr>
        <p:sp>
          <p:nvSpPr>
            <p:cNvPr id="362" name=""/>
            <p:cNvSpPr/>
            <p:nvPr/>
          </p:nvSpPr>
          <p:spPr>
            <a:xfrm>
              <a:off x="4781520" y="2200320"/>
              <a:ext cx="4019760" cy="277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97160" y="2476440"/>
              <a:ext cx="0" cy="23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456880" y="2342880"/>
              <a:ext cx="78444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662080" y="2504880"/>
              <a:ext cx="78444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867280" y="2666520"/>
              <a:ext cx="78444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072480" y="2857320"/>
              <a:ext cx="736200" cy="56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277680" y="3171600"/>
              <a:ext cx="53100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483600" y="3495600"/>
              <a:ext cx="325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688080" y="3819240"/>
              <a:ext cx="1206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809040" y="2932920"/>
              <a:ext cx="964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09040" y="2971440"/>
              <a:ext cx="253440" cy="51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809040" y="3047760"/>
              <a:ext cx="386280" cy="77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881760" y="3095280"/>
              <a:ext cx="446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038720" y="3123720"/>
              <a:ext cx="44640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171560" y="3200040"/>
              <a:ext cx="446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16280" y="3228840"/>
              <a:ext cx="446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461000" y="3285720"/>
              <a:ext cx="44676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19400" y="2657160"/>
              <a:ext cx="97776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97160" y="3409560"/>
              <a:ext cx="108612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89880" y="4286160"/>
              <a:ext cx="190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Fast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90120" y="430488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Slow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19C-D4F1-416C-B161-0A98434F9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Angles in re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633680"/>
            <a:ext cx="414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angle between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incident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(incoming) ray and the normal is called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ngle of 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angle between the refracted ray and the normal is called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ngle of refraction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867200" y="2421000"/>
            <a:ext cx="4276440" cy="2923920"/>
            <a:chOff x="4867200" y="2421000"/>
            <a:chExt cx="4276440" cy="2923920"/>
          </a:xfrm>
        </p:grpSpPr>
        <p:sp>
          <p:nvSpPr>
            <p:cNvPr id="386" name=""/>
            <p:cNvSpPr/>
            <p:nvPr/>
          </p:nvSpPr>
          <p:spPr>
            <a:xfrm>
              <a:off x="4934880" y="2421000"/>
              <a:ext cx="4066920" cy="292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31440" y="2727360"/>
              <a:ext cx="0" cy="25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576040" y="2588040"/>
              <a:ext cx="1366920" cy="1647360"/>
              <a:chOff x="5576040" y="2588040"/>
              <a:chExt cx="1366920" cy="1647360"/>
            </a:xfrm>
          </p:grpSpPr>
          <p:sp>
            <p:nvSpPr>
              <p:cNvPr id="389" name=""/>
              <p:cNvSpPr/>
              <p:nvPr/>
            </p:nvSpPr>
            <p:spPr>
              <a:xfrm flipH="1">
                <a:off x="5576040" y="2588040"/>
                <a:ext cx="793080" cy="62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5783400" y="2758680"/>
                <a:ext cx="793080" cy="62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5991120" y="2929320"/>
                <a:ext cx="793080" cy="62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198480" y="3130560"/>
                <a:ext cx="744480" cy="592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6405840" y="3461760"/>
                <a:ext cx="536760" cy="432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613920" y="3803760"/>
                <a:ext cx="329040" cy="261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820560" y="4145040"/>
                <a:ext cx="122040" cy="90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943320" y="3209400"/>
              <a:ext cx="1110960" cy="1337040"/>
              <a:chOff x="6943320" y="3209400"/>
              <a:chExt cx="1110960" cy="133704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6943320" y="3209400"/>
                <a:ext cx="390600" cy="934200"/>
                <a:chOff x="6943320" y="3209400"/>
                <a:chExt cx="390600" cy="934200"/>
              </a:xfrm>
            </p:grpSpPr>
            <p:sp>
              <p:nvSpPr>
                <p:cNvPr id="398" name=""/>
                <p:cNvSpPr/>
                <p:nvPr/>
              </p:nvSpPr>
              <p:spPr>
                <a:xfrm flipV="1">
                  <a:off x="6943320" y="3209400"/>
                  <a:ext cx="97560" cy="2512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6943320" y="3249000"/>
                  <a:ext cx="256320" cy="5425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6943320" y="3329640"/>
                  <a:ext cx="390600" cy="8139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 flipV="1">
                <a:off x="7016400" y="3380040"/>
                <a:ext cx="45144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7175520" y="3410280"/>
                <a:ext cx="45144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309800" y="3490560"/>
                <a:ext cx="45144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455960" y="3520800"/>
                <a:ext cx="45144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602480" y="3581280"/>
                <a:ext cx="45180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942160" y="2918880"/>
              <a:ext cx="988920" cy="79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31440" y="3713040"/>
              <a:ext cx="1099440" cy="3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67200" y="3326400"/>
              <a:ext cx="19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Incid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46280" y="365904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Ref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25680" y="3704400"/>
              <a:ext cx="35463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9800" y="3404520"/>
              <a:ext cx="154080" cy="28728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0" y="229"/>
                  </a:moveTo>
                  <a:cubicBezTo>
                    <a:pt x="40" y="133"/>
                    <a:pt x="81" y="37"/>
                    <a:pt x="1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415280" y="3692160"/>
              <a:ext cx="424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7E7-033F-40AB-A094-CEF272AF2C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hy Wav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wave is a method of transferring energy from one place to another without having to move any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s of everyday waves include: water, light, sound, seismic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y come in two forms: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ransvers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Longitu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251-4B2F-4FE7-9510-2AF79A439A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much a wave is bent depends on the refractive indices of the two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elative refractive ind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is a ratio of the speeds of the waves in the two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Absolute refractive ind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 n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is a measure of how much the speed is slowed when entering a medium from air ( or vacu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DE2-5BA6-4836-B241-6127447A55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nell’s La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23920" y="274608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n= refractive inde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</a:t>
            </a: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angle of incidence/re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v= wave spe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</a:t>
            </a: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Medium 1 is the one the wave is leav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Medium 2 is the one it is entering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874880" y="1693800"/>
                <a:ext cx="5530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453-6D76-414C-8A03-A174CFC82B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bending of waves as they travel through gap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maller the gap, the more the dif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709640" y="4334040"/>
            <a:ext cx="5727600" cy="2025360"/>
            <a:chOff x="1709640" y="4334040"/>
            <a:chExt cx="5727600" cy="2025360"/>
          </a:xfrm>
        </p:grpSpPr>
        <p:sp>
          <p:nvSpPr>
            <p:cNvPr id="421" name=""/>
            <p:cNvSpPr/>
            <p:nvPr/>
          </p:nvSpPr>
          <p:spPr>
            <a:xfrm>
              <a:off x="1709640" y="4334040"/>
              <a:ext cx="5727600" cy="20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192400" y="5055480"/>
              <a:ext cx="4719240" cy="213840"/>
              <a:chOff x="2192400" y="5055480"/>
              <a:chExt cx="4719240" cy="213840"/>
            </a:xfrm>
          </p:grpSpPr>
          <p:sp>
            <p:nvSpPr>
              <p:cNvPr id="423" name=""/>
              <p:cNvSpPr/>
              <p:nvPr/>
            </p:nvSpPr>
            <p:spPr>
              <a:xfrm>
                <a:off x="2192400" y="5055480"/>
                <a:ext cx="1877040" cy="21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34600" y="5055480"/>
                <a:ext cx="1877040" cy="21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928600" y="46436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45880" y="4843080"/>
              <a:ext cx="334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43720" y="505548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68600" y="5246280"/>
              <a:ext cx="215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99080" y="5259240"/>
              <a:ext cx="1489680" cy="232920"/>
            </a:xfrm>
            <a:custGeom>
              <a:avLst/>
              <a:gdLst/>
              <a:ahLst/>
              <a:rect l="l" t="t" r="r" b="b"/>
              <a:pathLst>
                <a:path w="704" h="159">
                  <a:moveTo>
                    <a:pt x="0" y="0"/>
                  </a:moveTo>
                  <a:cubicBezTo>
                    <a:pt x="115" y="76"/>
                    <a:pt x="231" y="153"/>
                    <a:pt x="348" y="156"/>
                  </a:cubicBezTo>
                  <a:cubicBezTo>
                    <a:pt x="465" y="159"/>
                    <a:pt x="642" y="44"/>
                    <a:pt x="704" y="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15960" y="5246280"/>
              <a:ext cx="2552400" cy="511560"/>
            </a:xfrm>
            <a:custGeom>
              <a:avLst/>
              <a:gdLst/>
              <a:ahLst/>
              <a:rect l="l" t="t" r="r" b="b"/>
              <a:pathLst>
                <a:path w="1033" h="266">
                  <a:moveTo>
                    <a:pt x="0" y="0"/>
                  </a:moveTo>
                  <a:cubicBezTo>
                    <a:pt x="156" y="132"/>
                    <a:pt x="313" y="264"/>
                    <a:pt x="485" y="265"/>
                  </a:cubicBezTo>
                  <a:cubicBezTo>
                    <a:pt x="657" y="266"/>
                    <a:pt x="942" y="52"/>
                    <a:pt x="1033" y="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71720" y="5070240"/>
              <a:ext cx="3858480" cy="970560"/>
            </a:xfrm>
            <a:custGeom>
              <a:avLst/>
              <a:gdLst/>
              <a:ahLst/>
              <a:rect l="l" t="t" r="r" b="b"/>
              <a:pathLst>
                <a:path w="1796" h="635">
                  <a:moveTo>
                    <a:pt x="0" y="111"/>
                  </a:moveTo>
                  <a:cubicBezTo>
                    <a:pt x="265" y="373"/>
                    <a:pt x="530" y="635"/>
                    <a:pt x="804" y="632"/>
                  </a:cubicBezTo>
                  <a:cubicBezTo>
                    <a:pt x="1078" y="629"/>
                    <a:pt x="1494" y="186"/>
                    <a:pt x="1645" y="93"/>
                  </a:cubicBezTo>
                  <a:cubicBezTo>
                    <a:pt x="1796" y="0"/>
                    <a:pt x="1752" y="37"/>
                    <a:pt x="1709" y="7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54360" y="4376520"/>
              <a:ext cx="0" cy="89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18C-999B-4D5E-93C1-25A645B10E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33812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or around ed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930320" y="1846440"/>
            <a:ext cx="5611680" cy="1871640"/>
            <a:chOff x="1930320" y="1846440"/>
            <a:chExt cx="5611680" cy="1871640"/>
          </a:xfrm>
        </p:grpSpPr>
        <p:sp>
          <p:nvSpPr>
            <p:cNvPr id="436" name=""/>
            <p:cNvSpPr/>
            <p:nvPr/>
          </p:nvSpPr>
          <p:spPr>
            <a:xfrm>
              <a:off x="1930320" y="1846440"/>
              <a:ext cx="5611680" cy="187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270160" y="2005920"/>
              <a:ext cx="4925880" cy="1485000"/>
              <a:chOff x="2270160" y="2005920"/>
              <a:chExt cx="4925880" cy="1485000"/>
            </a:xfrm>
          </p:grpSpPr>
          <p:sp>
            <p:nvSpPr>
              <p:cNvPr id="438" name=""/>
              <p:cNvSpPr/>
              <p:nvPr/>
            </p:nvSpPr>
            <p:spPr>
              <a:xfrm>
                <a:off x="2439720" y="209916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39720" y="229824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39720" y="249696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39720" y="269568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39720" y="289476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70160" y="2005920"/>
                <a:ext cx="2574360" cy="97488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4818240" y="3093480"/>
                <a:ext cx="2377800" cy="397440"/>
                <a:chOff x="4818240" y="3093480"/>
                <a:chExt cx="2377800" cy="3974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818240" y="3093480"/>
                  <a:ext cx="23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818240" y="3291840"/>
                  <a:ext cx="23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818240" y="3490920"/>
                  <a:ext cx="23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3462840" y="2862360"/>
                <a:ext cx="1333800" cy="627120"/>
              </a:xfrm>
              <a:custGeom>
                <a:avLst/>
                <a:gdLst/>
                <a:ahLst/>
                <a:rect l="l" t="t" r="r" b="b"/>
                <a:pathLst>
                  <a:path w="713" h="356">
                    <a:moveTo>
                      <a:pt x="713" y="356"/>
                    </a:moveTo>
                    <a:cubicBezTo>
                      <a:pt x="516" y="349"/>
                      <a:pt x="320" y="342"/>
                      <a:pt x="201" y="283"/>
                    </a:cubicBezTo>
                    <a:cubicBezTo>
                      <a:pt x="82" y="224"/>
                      <a:pt x="33" y="47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00520" y="2673720"/>
                <a:ext cx="1041480" cy="627120"/>
              </a:xfrm>
              <a:custGeom>
                <a:avLst/>
                <a:gdLst/>
                <a:ahLst/>
                <a:rect l="l" t="t" r="r" b="b"/>
                <a:pathLst>
                  <a:path w="713" h="356">
                    <a:moveTo>
                      <a:pt x="713" y="356"/>
                    </a:moveTo>
                    <a:cubicBezTo>
                      <a:pt x="516" y="349"/>
                      <a:pt x="320" y="342"/>
                      <a:pt x="201" y="283"/>
                    </a:cubicBezTo>
                    <a:cubicBezTo>
                      <a:pt x="82" y="224"/>
                      <a:pt x="33" y="47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07760" y="2847960"/>
                <a:ext cx="579600" cy="264240"/>
              </a:xfrm>
              <a:custGeom>
                <a:avLst/>
                <a:gdLst/>
                <a:ahLst/>
                <a:rect l="l" t="t" r="r" b="b"/>
                <a:pathLst>
                  <a:path w="713" h="356">
                    <a:moveTo>
                      <a:pt x="713" y="356"/>
                    </a:moveTo>
                    <a:cubicBezTo>
                      <a:pt x="516" y="349"/>
                      <a:pt x="320" y="342"/>
                      <a:pt x="201" y="283"/>
                    </a:cubicBezTo>
                    <a:cubicBezTo>
                      <a:pt x="82" y="224"/>
                      <a:pt x="33" y="47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089320" y="193968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54080" y="3895560"/>
            <a:ext cx="5628600" cy="2046600"/>
            <a:chOff x="1954080" y="3895560"/>
            <a:chExt cx="5628600" cy="2046600"/>
          </a:xfrm>
        </p:grpSpPr>
        <p:grpSp>
          <p:nvGrpSpPr>
            <p:cNvPr id="453" name=""/>
            <p:cNvGrpSpPr/>
            <p:nvPr/>
          </p:nvGrpSpPr>
          <p:grpSpPr>
            <a:xfrm>
              <a:off x="1954080" y="3895560"/>
              <a:ext cx="5628600" cy="2046600"/>
              <a:chOff x="1954080" y="3895560"/>
              <a:chExt cx="5628600" cy="2046600"/>
            </a:xfrm>
          </p:grpSpPr>
          <p:sp>
            <p:nvSpPr>
              <p:cNvPr id="454" name=""/>
              <p:cNvSpPr/>
              <p:nvPr/>
            </p:nvSpPr>
            <p:spPr>
              <a:xfrm>
                <a:off x="1954080" y="3895560"/>
                <a:ext cx="5628600" cy="204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2112840" y="4002480"/>
                <a:ext cx="5272200" cy="1817280"/>
                <a:chOff x="2112840" y="4002480"/>
                <a:chExt cx="5272200" cy="181728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2112840" y="4002480"/>
                  <a:ext cx="3670560" cy="1797120"/>
                  <a:chOff x="2112840" y="4002480"/>
                  <a:chExt cx="3670560" cy="179712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2262960" y="4079520"/>
                    <a:ext cx="2959560" cy="1666440"/>
                    <a:chOff x="2262960" y="4079520"/>
                    <a:chExt cx="2959560" cy="166644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2262960" y="4079520"/>
                      <a:ext cx="2959560" cy="1666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2646000" y="4295160"/>
                      <a:ext cx="2206080" cy="124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013920" y="4533120"/>
                      <a:ext cx="1470240" cy="82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365280" y="4710960"/>
                      <a:ext cx="811800" cy="457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188800" y="4002480"/>
                    <a:ext cx="1584360" cy="1797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695400" y="4058280"/>
                    <a:ext cx="2088000" cy="990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138040" y="5168160"/>
                    <a:ext cx="1662480" cy="572760"/>
                    <a:chOff x="2138040" y="5168160"/>
                    <a:chExt cx="1662480" cy="57276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>
                      <a:off x="2138040" y="516816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>
                      <a:off x="2138040" y="536220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>
                      <a:off x="2138040" y="554544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H="1">
                      <a:off x="2138040" y="574092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112840" y="4391640"/>
                    <a:ext cx="1662480" cy="572760"/>
                    <a:chOff x="2112840" y="4391640"/>
                    <a:chExt cx="1662480" cy="57276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flipH="1">
                      <a:off x="2112840" y="439164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H="1">
                      <a:off x="2112840" y="458568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>
                      <a:off x="2112840" y="476892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>
                      <a:off x="2112840" y="496440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74" name=""/>
                <p:cNvSpPr/>
                <p:nvPr/>
              </p:nvSpPr>
              <p:spPr>
                <a:xfrm flipH="1">
                  <a:off x="4275360" y="4099680"/>
                  <a:ext cx="2959920" cy="16664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645080" y="4315680"/>
                  <a:ext cx="2206440" cy="1242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5013000" y="4553640"/>
                  <a:ext cx="1470600" cy="827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5319720" y="4731120"/>
                  <a:ext cx="812520" cy="457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5724720" y="4022640"/>
                  <a:ext cx="1584720" cy="179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3714840" y="4078440"/>
                  <a:ext cx="2088000" cy="991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5697000" y="5188680"/>
                  <a:ext cx="1662480" cy="572760"/>
                  <a:chOff x="5697000" y="5188680"/>
                  <a:chExt cx="1662480" cy="57276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5697000" y="518868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697000" y="538272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697000" y="556596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5697000" y="576144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722560" y="4412160"/>
                  <a:ext cx="1662480" cy="572760"/>
                  <a:chOff x="5722560" y="4412160"/>
                  <a:chExt cx="1662480" cy="5727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5722560" y="441216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722560" y="460620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722560" y="478944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722560" y="498492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0" name=""/>
              <p:cNvSpPr/>
              <p:nvPr/>
            </p:nvSpPr>
            <p:spPr>
              <a:xfrm>
                <a:off x="2766960" y="4003560"/>
                <a:ext cx="0" cy="84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27400" y="4024080"/>
                <a:ext cx="0" cy="84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2123280" y="4203720"/>
              <a:ext cx="525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23280" y="4026240"/>
              <a:ext cx="530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g 229 Questions 14B 1-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284-6561-42E5-A531-977FF12F42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3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7400" y="1333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en two waves meet at one point they interf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onstructiv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interference is where a crest meets a crest, or a trough meets a t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creates a really big crest or a really deep t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664080" y="4610160"/>
            <a:ext cx="4367160" cy="1461960"/>
            <a:chOff x="3664080" y="4610160"/>
            <a:chExt cx="4367160" cy="1461960"/>
          </a:xfrm>
        </p:grpSpPr>
        <p:sp>
          <p:nvSpPr>
            <p:cNvPr id="497" name=""/>
            <p:cNvSpPr/>
            <p:nvPr/>
          </p:nvSpPr>
          <p:spPr>
            <a:xfrm>
              <a:off x="3664080" y="4610160"/>
              <a:ext cx="4367160" cy="14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719880" y="4662720"/>
              <a:ext cx="4253040" cy="1345320"/>
              <a:chOff x="3719880" y="4662720"/>
              <a:chExt cx="4253040" cy="134532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3719880" y="4951800"/>
                <a:ext cx="1121040" cy="667440"/>
                <a:chOff x="3719880" y="4951800"/>
                <a:chExt cx="1121040" cy="6674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719880" y="5286960"/>
                  <a:ext cx="11210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719880" y="4951800"/>
                  <a:ext cx="1121040" cy="667440"/>
                </a:xfrm>
                <a:custGeom>
                  <a:avLst/>
                  <a:gdLst/>
                  <a:ahLst/>
                  <a:rect l="l" t="t" r="r" b="b"/>
                  <a:pathLst>
                    <a:path w="4301" h="2861">
                      <a:moveTo>
                        <a:pt x="0" y="1440"/>
                      </a:moveTo>
                      <a:cubicBezTo>
                        <a:pt x="360" y="720"/>
                        <a:pt x="720" y="0"/>
                        <a:pt x="1080" y="0"/>
                      </a:cubicBezTo>
                      <a:cubicBezTo>
                        <a:pt x="1440" y="0"/>
                        <a:pt x="1800" y="963"/>
                        <a:pt x="2160" y="1440"/>
                      </a:cubicBezTo>
                      <a:cubicBezTo>
                        <a:pt x="2520" y="1917"/>
                        <a:pt x="2883" y="2861"/>
                        <a:pt x="3240" y="2861"/>
                      </a:cubicBezTo>
                      <a:cubicBezTo>
                        <a:pt x="3597" y="2861"/>
                        <a:pt x="4127" y="1674"/>
                        <a:pt x="4301" y="14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175360" y="5005080"/>
                <a:ext cx="1121040" cy="637200"/>
                <a:chOff x="5175360" y="5005080"/>
                <a:chExt cx="1121040" cy="6372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175360" y="5325120"/>
                  <a:ext cx="11210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175360" y="5005080"/>
                  <a:ext cx="1121040" cy="637200"/>
                </a:xfrm>
                <a:custGeom>
                  <a:avLst/>
                  <a:gdLst/>
                  <a:ahLst/>
                  <a:rect l="l" t="t" r="r" b="b"/>
                  <a:pathLst>
                    <a:path w="4301" h="2861">
                      <a:moveTo>
                        <a:pt x="0" y="1440"/>
                      </a:moveTo>
                      <a:cubicBezTo>
                        <a:pt x="360" y="720"/>
                        <a:pt x="720" y="0"/>
                        <a:pt x="1080" y="0"/>
                      </a:cubicBezTo>
                      <a:cubicBezTo>
                        <a:pt x="1440" y="0"/>
                        <a:pt x="1800" y="963"/>
                        <a:pt x="2160" y="1440"/>
                      </a:cubicBezTo>
                      <a:cubicBezTo>
                        <a:pt x="2520" y="1917"/>
                        <a:pt x="2883" y="2861"/>
                        <a:pt x="3240" y="2861"/>
                      </a:cubicBezTo>
                      <a:cubicBezTo>
                        <a:pt x="3597" y="2861"/>
                        <a:pt x="4127" y="1674"/>
                        <a:pt x="4301" y="14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4923360" y="5219280"/>
                <a:ext cx="167400" cy="190080"/>
                <a:chOff x="4923360" y="5219280"/>
                <a:chExt cx="167400" cy="1900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005080" y="5219280"/>
                  <a:ext cx="0" cy="190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923360" y="5302800"/>
                  <a:ext cx="167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523920" y="5318280"/>
                <a:ext cx="167400" cy="68400"/>
                <a:chOff x="6523920" y="5318280"/>
                <a:chExt cx="167400" cy="684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523920" y="5386680"/>
                  <a:ext cx="167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523920" y="5318280"/>
                  <a:ext cx="167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852240" y="4662720"/>
                <a:ext cx="1120680" cy="1345320"/>
                <a:chOff x="6852240" y="4662720"/>
                <a:chExt cx="1120680" cy="13453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6852240" y="5338440"/>
                  <a:ext cx="11206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852240" y="4662720"/>
                  <a:ext cx="1120680" cy="1345320"/>
                </a:xfrm>
                <a:custGeom>
                  <a:avLst/>
                  <a:gdLst/>
                  <a:ahLst/>
                  <a:rect l="l" t="t" r="r" b="b"/>
                  <a:pathLst>
                    <a:path w="4301" h="2861">
                      <a:moveTo>
                        <a:pt x="0" y="1440"/>
                      </a:moveTo>
                      <a:cubicBezTo>
                        <a:pt x="360" y="720"/>
                        <a:pt x="720" y="0"/>
                        <a:pt x="1080" y="0"/>
                      </a:cubicBezTo>
                      <a:cubicBezTo>
                        <a:pt x="1440" y="0"/>
                        <a:pt x="1800" y="963"/>
                        <a:pt x="2160" y="1440"/>
                      </a:cubicBezTo>
                      <a:cubicBezTo>
                        <a:pt x="2520" y="1917"/>
                        <a:pt x="2883" y="2861"/>
                        <a:pt x="3240" y="2861"/>
                      </a:cubicBezTo>
                      <a:cubicBezTo>
                        <a:pt x="3597" y="2861"/>
                        <a:pt x="4127" y="1674"/>
                        <a:pt x="4301" y="14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C66-088E-4F66-8078-737A1CCB1D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Destructiv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interference is where a crest meets a trough. The result is that they cancel each other out leaving no w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752480" y="3886200"/>
            <a:ext cx="5410080" cy="1811160"/>
            <a:chOff x="1752480" y="3886200"/>
            <a:chExt cx="5410080" cy="1811160"/>
          </a:xfrm>
        </p:grpSpPr>
        <p:sp>
          <p:nvSpPr>
            <p:cNvPr id="517" name=""/>
            <p:cNvSpPr/>
            <p:nvPr/>
          </p:nvSpPr>
          <p:spPr>
            <a:xfrm>
              <a:off x="1752480" y="3886200"/>
              <a:ext cx="5410080" cy="181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822320" y="4309920"/>
              <a:ext cx="1388520" cy="826200"/>
              <a:chOff x="1822320" y="4309920"/>
              <a:chExt cx="1388520" cy="826200"/>
            </a:xfrm>
          </p:grpSpPr>
          <p:sp>
            <p:nvSpPr>
              <p:cNvPr id="519" name=""/>
              <p:cNvSpPr/>
              <p:nvPr/>
            </p:nvSpPr>
            <p:spPr>
              <a:xfrm>
                <a:off x="1822320" y="4725000"/>
                <a:ext cx="13885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22320" y="4309920"/>
                <a:ext cx="1388520" cy="82620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625560" y="4375440"/>
              <a:ext cx="1388520" cy="789120"/>
              <a:chOff x="3625560" y="4375440"/>
              <a:chExt cx="1388520" cy="789120"/>
            </a:xfrm>
          </p:grpSpPr>
          <p:sp>
            <p:nvSpPr>
              <p:cNvPr id="522" name=""/>
              <p:cNvSpPr/>
              <p:nvPr/>
            </p:nvSpPr>
            <p:spPr>
              <a:xfrm>
                <a:off x="3625560" y="4768200"/>
                <a:ext cx="13885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625560" y="4375440"/>
                <a:ext cx="1388520" cy="78912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3312360" y="4641120"/>
              <a:ext cx="207000" cy="235440"/>
              <a:chOff x="3312360" y="4641120"/>
              <a:chExt cx="207000" cy="235440"/>
            </a:xfrm>
          </p:grpSpPr>
          <p:sp>
            <p:nvSpPr>
              <p:cNvPr id="525" name=""/>
              <p:cNvSpPr/>
              <p:nvPr/>
            </p:nvSpPr>
            <p:spPr>
              <a:xfrm>
                <a:off x="3413520" y="4641120"/>
                <a:ext cx="0" cy="235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312360" y="4744440"/>
                <a:ext cx="207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295600" y="4763520"/>
              <a:ext cx="207000" cy="84240"/>
              <a:chOff x="5295600" y="4763520"/>
              <a:chExt cx="207000" cy="84240"/>
            </a:xfrm>
          </p:grpSpPr>
          <p:sp>
            <p:nvSpPr>
              <p:cNvPr id="528" name=""/>
              <p:cNvSpPr/>
              <p:nvPr/>
            </p:nvSpPr>
            <p:spPr>
              <a:xfrm>
                <a:off x="5295600" y="4847760"/>
                <a:ext cx="207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95600" y="4763520"/>
                <a:ext cx="207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5702040" y="4788720"/>
              <a:ext cx="1388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08160" y="4782600"/>
              <a:ext cx="137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0FE-68B0-46D8-B096-E504BF5D87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bility of waves to superimpose (add their displacements and energy) as they move through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carry on after as if the other wave was not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g, if several people in a room talk all at once, the different sounds move from place to place with no effect on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F6B-7225-4C0A-A79A-2E01FD98EB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819000" y="1969920"/>
            <a:ext cx="3899880" cy="3751200"/>
            <a:chOff x="819000" y="1969920"/>
            <a:chExt cx="3899880" cy="3751200"/>
          </a:xfrm>
        </p:grpSpPr>
        <p:grpSp>
          <p:nvGrpSpPr>
            <p:cNvPr id="536" name=""/>
            <p:cNvGrpSpPr/>
            <p:nvPr/>
          </p:nvGrpSpPr>
          <p:grpSpPr>
            <a:xfrm>
              <a:off x="848520" y="2216160"/>
              <a:ext cx="3778560" cy="283320"/>
              <a:chOff x="848520" y="2216160"/>
              <a:chExt cx="3778560" cy="283320"/>
            </a:xfrm>
          </p:grpSpPr>
          <p:sp>
            <p:nvSpPr>
              <p:cNvPr id="537" name=""/>
              <p:cNvSpPr/>
              <p:nvPr/>
            </p:nvSpPr>
            <p:spPr>
              <a:xfrm>
                <a:off x="848520" y="2477520"/>
                <a:ext cx="106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1914840" y="2227320"/>
                <a:ext cx="559800" cy="272160"/>
                <a:chOff x="1914840" y="2227320"/>
                <a:chExt cx="559800" cy="27216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1914840" y="2227320"/>
                  <a:ext cx="0" cy="24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914840" y="2227320"/>
                  <a:ext cx="5551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2474640" y="2249640"/>
                  <a:ext cx="0" cy="24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2469960" y="2494080"/>
                <a:ext cx="52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560760" y="2482920"/>
                <a:ext cx="106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3000600" y="2216160"/>
                <a:ext cx="559800" cy="271800"/>
                <a:chOff x="3000600" y="2216160"/>
                <a:chExt cx="559800" cy="27180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3560400" y="221616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3005280" y="2216520"/>
                  <a:ext cx="5551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3000600" y="223848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819000" y="3002400"/>
              <a:ext cx="3812040" cy="282240"/>
              <a:chOff x="819000" y="3002400"/>
              <a:chExt cx="3812040" cy="28224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2138400" y="3013200"/>
                <a:ext cx="559800" cy="271440"/>
                <a:chOff x="2138400" y="3013200"/>
                <a:chExt cx="559800" cy="271440"/>
              </a:xfrm>
            </p:grpSpPr>
            <p:sp>
              <p:nvSpPr>
                <p:cNvPr id="550" name=""/>
                <p:cNvSpPr/>
                <p:nvPr/>
              </p:nvSpPr>
              <p:spPr>
                <a:xfrm flipV="1">
                  <a:off x="2138400" y="3013200"/>
                  <a:ext cx="0" cy="24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8400" y="3013560"/>
                  <a:ext cx="5551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2698200" y="3035160"/>
                  <a:ext cx="0" cy="24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727360" y="3002400"/>
                <a:ext cx="559800" cy="271440"/>
                <a:chOff x="2727360" y="3002400"/>
                <a:chExt cx="559800" cy="271440"/>
              </a:xfrm>
            </p:grpSpPr>
            <p:sp>
              <p:nvSpPr>
                <p:cNvPr id="554" name=""/>
                <p:cNvSpPr/>
                <p:nvPr/>
              </p:nvSpPr>
              <p:spPr>
                <a:xfrm flipV="1">
                  <a:off x="3287160" y="3002400"/>
                  <a:ext cx="0" cy="2498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>
                  <a:off x="2732040" y="3002400"/>
                  <a:ext cx="5551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2727360" y="302436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 flipH="1">
                <a:off x="819000" y="3241080"/>
                <a:ext cx="131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87520" y="3241080"/>
                <a:ext cx="13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852480" y="3850200"/>
              <a:ext cx="3764880" cy="276480"/>
              <a:chOff x="852480" y="3850200"/>
              <a:chExt cx="3764880" cy="27648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2464560" y="3850200"/>
                <a:ext cx="559800" cy="271080"/>
                <a:chOff x="2464560" y="3850200"/>
                <a:chExt cx="559800" cy="271080"/>
              </a:xfrm>
            </p:grpSpPr>
            <p:sp>
              <p:nvSpPr>
                <p:cNvPr id="561" name=""/>
                <p:cNvSpPr/>
                <p:nvPr/>
              </p:nvSpPr>
              <p:spPr>
                <a:xfrm flipV="1">
                  <a:off x="2464560" y="3850200"/>
                  <a:ext cx="0" cy="249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464560" y="3850200"/>
                  <a:ext cx="5551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3024360" y="3872160"/>
                  <a:ext cx="0" cy="249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2454840" y="3855240"/>
                <a:ext cx="559800" cy="271440"/>
                <a:chOff x="2454840" y="3855240"/>
                <a:chExt cx="559800" cy="271440"/>
              </a:xfrm>
            </p:grpSpPr>
            <p:sp>
              <p:nvSpPr>
                <p:cNvPr id="565" name=""/>
                <p:cNvSpPr/>
                <p:nvPr/>
              </p:nvSpPr>
              <p:spPr>
                <a:xfrm flipV="1">
                  <a:off x="3014640" y="385524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2459520" y="3855600"/>
                  <a:ext cx="5551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2454840" y="3877560"/>
                  <a:ext cx="0" cy="24912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3024720" y="4105080"/>
                <a:ext cx="159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2480" y="4093920"/>
                <a:ext cx="159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882360" y="4629600"/>
              <a:ext cx="3836520" cy="276840"/>
              <a:chOff x="882360" y="4629600"/>
              <a:chExt cx="3836520" cy="276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206440" y="4635000"/>
                <a:ext cx="559800" cy="271440"/>
                <a:chOff x="2206440" y="4635000"/>
                <a:chExt cx="559800" cy="27144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2766240" y="463500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2211120" y="4635360"/>
                  <a:ext cx="5551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V="1">
                  <a:off x="2206440" y="4657320"/>
                  <a:ext cx="0" cy="24912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786040" y="4629600"/>
                <a:ext cx="559800" cy="271440"/>
                <a:chOff x="2786040" y="4629600"/>
                <a:chExt cx="559800" cy="271440"/>
              </a:xfrm>
            </p:grpSpPr>
            <p:sp>
              <p:nvSpPr>
                <p:cNvPr id="576" name=""/>
                <p:cNvSpPr/>
                <p:nvPr/>
              </p:nvSpPr>
              <p:spPr>
                <a:xfrm flipV="1">
                  <a:off x="2786040" y="4629600"/>
                  <a:ext cx="0" cy="24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786040" y="4629960"/>
                  <a:ext cx="5551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3345840" y="4651560"/>
                  <a:ext cx="0" cy="24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3375360" y="4885200"/>
                <a:ext cx="13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2360" y="4890240"/>
                <a:ext cx="13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852480" y="5410800"/>
              <a:ext cx="3807720" cy="310320"/>
              <a:chOff x="852480" y="5410800"/>
              <a:chExt cx="3807720" cy="31032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3106800" y="5410800"/>
                <a:ext cx="560160" cy="270720"/>
                <a:chOff x="3106800" y="5410800"/>
                <a:chExt cx="560160" cy="270720"/>
              </a:xfrm>
            </p:grpSpPr>
            <p:sp>
              <p:nvSpPr>
                <p:cNvPr id="583" name=""/>
                <p:cNvSpPr/>
                <p:nvPr/>
              </p:nvSpPr>
              <p:spPr>
                <a:xfrm flipV="1">
                  <a:off x="3106800" y="5410800"/>
                  <a:ext cx="0" cy="2487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106800" y="5411160"/>
                  <a:ext cx="5554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3666960" y="5432760"/>
                  <a:ext cx="0" cy="2487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947960" y="5438520"/>
                <a:ext cx="560160" cy="270360"/>
                <a:chOff x="1947960" y="5438520"/>
                <a:chExt cx="560160" cy="270360"/>
              </a:xfrm>
            </p:grpSpPr>
            <p:sp>
              <p:nvSpPr>
                <p:cNvPr id="587" name=""/>
                <p:cNvSpPr/>
                <p:nvPr/>
              </p:nvSpPr>
              <p:spPr>
                <a:xfrm flipV="1">
                  <a:off x="2508120" y="5438520"/>
                  <a:ext cx="0" cy="24912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1952280" y="5438520"/>
                  <a:ext cx="5554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1947960" y="5460120"/>
                  <a:ext cx="0" cy="248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3681720" y="5665320"/>
                <a:ext cx="97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52480" y="5721120"/>
                <a:ext cx="1109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2503080" y="5687640"/>
                <a:ext cx="628200" cy="1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1987560" y="197928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82680" y="283140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15920" y="373428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97800" y="445248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424320" y="5272560"/>
              <a:ext cx="36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887200" y="2837520"/>
              <a:ext cx="36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338200" y="3739320"/>
              <a:ext cx="36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124720" y="447588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837080" y="529416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255120" y="196992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003640" y="2041560"/>
            <a:ext cx="3511800" cy="3630960"/>
            <a:chOff x="5003640" y="2041560"/>
            <a:chExt cx="3511800" cy="3630960"/>
          </a:xfrm>
        </p:grpSpPr>
        <p:sp>
          <p:nvSpPr>
            <p:cNvPr id="604" name=""/>
            <p:cNvSpPr/>
            <p:nvPr/>
          </p:nvSpPr>
          <p:spPr>
            <a:xfrm flipH="1">
              <a:off x="7067520" y="2041560"/>
              <a:ext cx="33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5034600" y="2208600"/>
              <a:ext cx="3480120" cy="283680"/>
              <a:chOff x="5034600" y="2208600"/>
              <a:chExt cx="3480120" cy="283680"/>
            </a:xfrm>
          </p:grpSpPr>
          <p:sp>
            <p:nvSpPr>
              <p:cNvPr id="606" name=""/>
              <p:cNvSpPr/>
              <p:nvPr/>
            </p:nvSpPr>
            <p:spPr>
              <a:xfrm>
                <a:off x="5034600" y="2470320"/>
                <a:ext cx="982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6016680" y="2219400"/>
                <a:ext cx="515520" cy="272880"/>
                <a:chOff x="6016680" y="2219400"/>
                <a:chExt cx="515520" cy="272880"/>
              </a:xfrm>
            </p:grpSpPr>
            <p:sp>
              <p:nvSpPr>
                <p:cNvPr id="608" name=""/>
                <p:cNvSpPr/>
                <p:nvPr/>
              </p:nvSpPr>
              <p:spPr>
                <a:xfrm flipV="1">
                  <a:off x="6016680" y="221940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016680" y="2219400"/>
                  <a:ext cx="511200" cy="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6532200" y="224172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6528240" y="2487240"/>
                <a:ext cx="484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7532640" y="2476080"/>
                <a:ext cx="982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7016760" y="2208600"/>
                <a:ext cx="515880" cy="272160"/>
                <a:chOff x="7016760" y="2208600"/>
                <a:chExt cx="515880" cy="272160"/>
              </a:xfrm>
            </p:grpSpPr>
            <p:sp>
              <p:nvSpPr>
                <p:cNvPr id="614" name=""/>
                <p:cNvSpPr/>
                <p:nvPr/>
              </p:nvSpPr>
              <p:spPr>
                <a:xfrm flipV="1">
                  <a:off x="7532640" y="220860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7020720" y="2208600"/>
                  <a:ext cx="511560" cy="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7016760" y="2230560"/>
                  <a:ext cx="0" cy="2502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003640" y="3015360"/>
              <a:ext cx="3511440" cy="262440"/>
              <a:chOff x="5003640" y="3015360"/>
              <a:chExt cx="3511440" cy="262440"/>
            </a:xfrm>
          </p:grpSpPr>
          <p:sp>
            <p:nvSpPr>
              <p:cNvPr id="618" name=""/>
              <p:cNvSpPr/>
              <p:nvPr/>
            </p:nvSpPr>
            <p:spPr>
              <a:xfrm flipV="1">
                <a:off x="6218640" y="3026160"/>
                <a:ext cx="0" cy="2516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33400" y="302652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7277760" y="3015360"/>
                <a:ext cx="0" cy="2516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766560" y="301572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003640" y="3255120"/>
                <a:ext cx="12110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77760" y="3255120"/>
                <a:ext cx="12373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7200" y="3576240"/>
              <a:ext cx="3468240" cy="543600"/>
              <a:chOff x="5047200" y="3576240"/>
              <a:chExt cx="3468240" cy="54360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6531840" y="384804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048080" y="386964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7039080" y="359424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527880" y="357624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6538320" y="357876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48080" y="4105080"/>
                <a:ext cx="146736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047200" y="4092840"/>
                <a:ext cx="146736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003640" y="4674240"/>
              <a:ext cx="3511440" cy="262080"/>
              <a:chOff x="5003640" y="4674240"/>
              <a:chExt cx="3511440" cy="262080"/>
            </a:xfrm>
          </p:grpSpPr>
          <p:sp>
            <p:nvSpPr>
              <p:cNvPr id="633" name=""/>
              <p:cNvSpPr/>
              <p:nvPr/>
            </p:nvSpPr>
            <p:spPr>
              <a:xfrm flipV="1">
                <a:off x="6218640" y="4685040"/>
                <a:ext cx="0" cy="251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33400" y="468504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7277760" y="4674240"/>
                <a:ext cx="0" cy="251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766560" y="467424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003640" y="4913280"/>
                <a:ext cx="12110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277760" y="4913280"/>
                <a:ext cx="12373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5034600" y="5388840"/>
              <a:ext cx="3480120" cy="283680"/>
              <a:chOff x="5034600" y="5388840"/>
              <a:chExt cx="3480120" cy="283680"/>
            </a:xfrm>
          </p:grpSpPr>
          <p:sp>
            <p:nvSpPr>
              <p:cNvPr id="640" name=""/>
              <p:cNvSpPr/>
              <p:nvPr/>
            </p:nvSpPr>
            <p:spPr>
              <a:xfrm>
                <a:off x="5034600" y="5650560"/>
                <a:ext cx="982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016680" y="5399640"/>
                <a:ext cx="515520" cy="272880"/>
                <a:chOff x="6016680" y="5399640"/>
                <a:chExt cx="515520" cy="272880"/>
              </a:xfrm>
            </p:grpSpPr>
            <p:sp>
              <p:nvSpPr>
                <p:cNvPr id="642" name=""/>
                <p:cNvSpPr/>
                <p:nvPr/>
              </p:nvSpPr>
              <p:spPr>
                <a:xfrm flipV="1">
                  <a:off x="6016680" y="539964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016680" y="5399640"/>
                  <a:ext cx="511200" cy="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6532200" y="542196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6528240" y="5667480"/>
                <a:ext cx="484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7532640" y="5656320"/>
                <a:ext cx="982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7016760" y="5388840"/>
                <a:ext cx="515880" cy="272160"/>
                <a:chOff x="7016760" y="5388840"/>
                <a:chExt cx="515880" cy="27216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532640" y="538884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>
                  <a:off x="7020720" y="5388840"/>
                  <a:ext cx="511560" cy="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016760" y="5410800"/>
                  <a:ext cx="0" cy="2502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1" name=""/>
            <p:cNvSpPr/>
            <p:nvPr/>
          </p:nvSpPr>
          <p:spPr>
            <a:xfrm flipH="1">
              <a:off x="5978520" y="5203440"/>
              <a:ext cx="33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49880" y="2063160"/>
              <a:ext cx="33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48960" y="5225040"/>
              <a:ext cx="33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F2E-9D30-4422-A141-E6E3C30A2F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819000" y="1979640"/>
            <a:ext cx="3900600" cy="4152960"/>
            <a:chOff x="819000" y="1979640"/>
            <a:chExt cx="3900600" cy="4152960"/>
          </a:xfrm>
        </p:grpSpPr>
        <p:sp>
          <p:nvSpPr>
            <p:cNvPr id="656" name=""/>
            <p:cNvSpPr/>
            <p:nvPr/>
          </p:nvSpPr>
          <p:spPr>
            <a:xfrm>
              <a:off x="849240" y="247824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1916280" y="2226960"/>
              <a:ext cx="558720" cy="272520"/>
              <a:chOff x="1916280" y="2226960"/>
              <a:chExt cx="558720" cy="272520"/>
            </a:xfrm>
          </p:grpSpPr>
          <p:sp>
            <p:nvSpPr>
              <p:cNvPr id="658" name=""/>
              <p:cNvSpPr/>
              <p:nvPr/>
            </p:nvSpPr>
            <p:spPr>
              <a:xfrm flipV="1">
                <a:off x="1916280" y="222696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916280" y="2227320"/>
                <a:ext cx="5540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2475000" y="224928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2470320" y="2494080"/>
              <a:ext cx="52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560400" y="24829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3021120" y="2502720"/>
              <a:ext cx="558720" cy="272160"/>
              <a:chOff x="3021120" y="2502720"/>
              <a:chExt cx="558720" cy="272160"/>
            </a:xfrm>
          </p:grpSpPr>
          <p:sp>
            <p:nvSpPr>
              <p:cNvPr id="664" name=""/>
              <p:cNvSpPr/>
              <p:nvPr/>
            </p:nvSpPr>
            <p:spPr>
              <a:xfrm>
                <a:off x="3579840" y="2524320"/>
                <a:ext cx="0" cy="250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025440" y="2774880"/>
                <a:ext cx="5540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21120" y="2502720"/>
                <a:ext cx="0" cy="250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138400" y="3012840"/>
              <a:ext cx="560520" cy="272520"/>
              <a:chOff x="2138400" y="3012840"/>
              <a:chExt cx="560520" cy="272520"/>
            </a:xfrm>
          </p:grpSpPr>
          <p:sp>
            <p:nvSpPr>
              <p:cNvPr id="668" name=""/>
              <p:cNvSpPr/>
              <p:nvPr/>
            </p:nvSpPr>
            <p:spPr>
              <a:xfrm flipV="1">
                <a:off x="2138400" y="301284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138400" y="3013200"/>
                <a:ext cx="5558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698920" y="303516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708280" y="3269520"/>
              <a:ext cx="560520" cy="272160"/>
              <a:chOff x="2708280" y="3269520"/>
              <a:chExt cx="560520" cy="272160"/>
            </a:xfrm>
          </p:grpSpPr>
          <p:sp>
            <p:nvSpPr>
              <p:cNvPr id="672" name=""/>
              <p:cNvSpPr/>
              <p:nvPr/>
            </p:nvSpPr>
            <p:spPr>
              <a:xfrm>
                <a:off x="3268800" y="3291120"/>
                <a:ext cx="0" cy="250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712960" y="3541680"/>
                <a:ext cx="5558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08280" y="3269520"/>
                <a:ext cx="0" cy="250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 flipH="1">
              <a:off x="819000" y="3241800"/>
              <a:ext cx="131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87880" y="3241800"/>
              <a:ext cx="134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465280" y="3849480"/>
              <a:ext cx="560520" cy="272520"/>
              <a:chOff x="2465280" y="3849480"/>
              <a:chExt cx="560520" cy="272520"/>
            </a:xfrm>
          </p:grpSpPr>
          <p:sp>
            <p:nvSpPr>
              <p:cNvPr id="678" name=""/>
              <p:cNvSpPr/>
              <p:nvPr/>
            </p:nvSpPr>
            <p:spPr>
              <a:xfrm flipV="1">
                <a:off x="2465280" y="384948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465280" y="3849840"/>
                <a:ext cx="5558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3025800" y="387180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455920" y="4123080"/>
              <a:ext cx="558720" cy="271440"/>
              <a:chOff x="2455920" y="4123080"/>
              <a:chExt cx="558720" cy="271440"/>
            </a:xfrm>
          </p:grpSpPr>
          <p:sp>
            <p:nvSpPr>
              <p:cNvPr id="682" name=""/>
              <p:cNvSpPr/>
              <p:nvPr/>
            </p:nvSpPr>
            <p:spPr>
              <a:xfrm>
                <a:off x="3014640" y="4145040"/>
                <a:ext cx="0" cy="24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2460240" y="4394160"/>
                <a:ext cx="5540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55920" y="4123080"/>
                <a:ext cx="0" cy="249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3025800" y="410544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52480" y="409428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2225520" y="4902480"/>
              <a:ext cx="560520" cy="271440"/>
              <a:chOff x="2225520" y="4902480"/>
              <a:chExt cx="560520" cy="271440"/>
            </a:xfrm>
          </p:grpSpPr>
          <p:sp>
            <p:nvSpPr>
              <p:cNvPr id="688" name=""/>
              <p:cNvSpPr/>
              <p:nvPr/>
            </p:nvSpPr>
            <p:spPr>
              <a:xfrm>
                <a:off x="2786040" y="4924440"/>
                <a:ext cx="0" cy="24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230200" y="5173560"/>
                <a:ext cx="5558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225520" y="4902480"/>
                <a:ext cx="0" cy="249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2786040" y="4630680"/>
              <a:ext cx="560520" cy="271080"/>
              <a:chOff x="2786040" y="4630680"/>
              <a:chExt cx="560520" cy="271080"/>
            </a:xfrm>
          </p:grpSpPr>
          <p:sp>
            <p:nvSpPr>
              <p:cNvPr id="692" name=""/>
              <p:cNvSpPr/>
              <p:nvPr/>
            </p:nvSpPr>
            <p:spPr>
              <a:xfrm flipV="1">
                <a:off x="2786040" y="4630680"/>
                <a:ext cx="0" cy="24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86040" y="4630680"/>
                <a:ext cx="5558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3346560" y="4652640"/>
                <a:ext cx="0" cy="24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3375000" y="488484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2720" y="489096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3106800" y="5411880"/>
              <a:ext cx="560160" cy="271080"/>
              <a:chOff x="3106800" y="5411880"/>
              <a:chExt cx="560160" cy="27108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3106800" y="5411880"/>
                <a:ext cx="0" cy="24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106800" y="5411880"/>
                <a:ext cx="555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666960" y="5433840"/>
                <a:ext cx="0" cy="24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986120" y="5724360"/>
              <a:ext cx="560160" cy="271800"/>
              <a:chOff x="1986120" y="5724360"/>
              <a:chExt cx="560160" cy="271800"/>
            </a:xfrm>
          </p:grpSpPr>
          <p:sp>
            <p:nvSpPr>
              <p:cNvPr id="702" name=""/>
              <p:cNvSpPr/>
              <p:nvPr/>
            </p:nvSpPr>
            <p:spPr>
              <a:xfrm>
                <a:off x="2546280" y="5746680"/>
                <a:ext cx="0" cy="24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1990440" y="5995800"/>
                <a:ext cx="5554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86120" y="5724360"/>
                <a:ext cx="0" cy="24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681360" y="5665680"/>
              <a:ext cx="97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52480" y="5721480"/>
              <a:ext cx="110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503440" y="5687640"/>
              <a:ext cx="628560" cy="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87560" y="19796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92520" y="309888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16280" y="373536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98880" y="445284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24320" y="527220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296800" y="342900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147760" y="4540320"/>
              <a:ext cx="4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856880" y="5295960"/>
              <a:ext cx="36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665360" y="613260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141720" y="235116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280" y="2063880"/>
            <a:ext cx="3512160" cy="4054320"/>
            <a:chOff x="5003280" y="2063880"/>
            <a:chExt cx="3512160" cy="4054320"/>
          </a:xfrm>
        </p:grpSpPr>
        <p:sp>
          <p:nvSpPr>
            <p:cNvPr id="719" name=""/>
            <p:cNvSpPr/>
            <p:nvPr/>
          </p:nvSpPr>
          <p:spPr>
            <a:xfrm flipH="1">
              <a:off x="7105320" y="286056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35680" y="2471760"/>
              <a:ext cx="9824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018120" y="2219400"/>
              <a:ext cx="514440" cy="274320"/>
              <a:chOff x="6018120" y="2219400"/>
              <a:chExt cx="514440" cy="274320"/>
            </a:xfrm>
          </p:grpSpPr>
          <p:sp>
            <p:nvSpPr>
              <p:cNvPr id="722" name=""/>
              <p:cNvSpPr/>
              <p:nvPr/>
            </p:nvSpPr>
            <p:spPr>
              <a:xfrm flipV="1">
                <a:off x="6018120" y="2219400"/>
                <a:ext cx="0" cy="252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18120" y="2219400"/>
                <a:ext cx="5101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532560" y="2241720"/>
                <a:ext cx="0" cy="252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6529320" y="2487600"/>
              <a:ext cx="4842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532640" y="2476440"/>
              <a:ext cx="9828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6999120" y="2475000"/>
              <a:ext cx="514440" cy="274680"/>
              <a:chOff x="6999120" y="2475000"/>
              <a:chExt cx="514440" cy="274680"/>
            </a:xfrm>
          </p:grpSpPr>
          <p:sp>
            <p:nvSpPr>
              <p:cNvPr id="728" name=""/>
              <p:cNvSpPr/>
              <p:nvPr/>
            </p:nvSpPr>
            <p:spPr>
              <a:xfrm>
                <a:off x="7513560" y="2497320"/>
                <a:ext cx="0" cy="2523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02720" y="2749320"/>
                <a:ext cx="5101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99120" y="2475000"/>
                <a:ext cx="0" cy="252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 flipH="1">
              <a:off x="5003280" y="3255840"/>
              <a:ext cx="12114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3257640"/>
              <a:ext cx="12384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62640" y="4086360"/>
              <a:ext cx="2152800" cy="190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48280" y="4092480"/>
              <a:ext cx="1467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003280" y="4913280"/>
              <a:ext cx="12114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77040" y="4913280"/>
              <a:ext cx="12384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35680" y="5651640"/>
              <a:ext cx="9824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6018120" y="5668200"/>
              <a:ext cx="514440" cy="272520"/>
              <a:chOff x="6018120" y="5668200"/>
              <a:chExt cx="514440" cy="272520"/>
            </a:xfrm>
          </p:grpSpPr>
          <p:sp>
            <p:nvSpPr>
              <p:cNvPr id="739" name=""/>
              <p:cNvSpPr/>
              <p:nvPr/>
            </p:nvSpPr>
            <p:spPr>
              <a:xfrm>
                <a:off x="6018120" y="569052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18120" y="5940360"/>
                <a:ext cx="5101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532560" y="566820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6529320" y="5667480"/>
              <a:ext cx="4842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2640" y="5656320"/>
              <a:ext cx="9828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7018200" y="5389560"/>
              <a:ext cx="514440" cy="272160"/>
              <a:chOff x="7018200" y="5389560"/>
              <a:chExt cx="514440" cy="272160"/>
            </a:xfrm>
          </p:grpSpPr>
          <p:sp>
            <p:nvSpPr>
              <p:cNvPr id="745" name=""/>
              <p:cNvSpPr/>
              <p:nvPr/>
            </p:nvSpPr>
            <p:spPr>
              <a:xfrm flipV="1">
                <a:off x="7532640" y="5389560"/>
                <a:ext cx="0" cy="2505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021800" y="5389560"/>
                <a:ext cx="5101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7018200" y="541152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 flipH="1">
              <a:off x="5959080" y="611820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49880" y="206388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48600" y="522432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6218280" y="3009960"/>
              <a:ext cx="1039680" cy="487440"/>
              <a:chOff x="6218280" y="3009960"/>
              <a:chExt cx="1039680" cy="487440"/>
            </a:xfrm>
          </p:grpSpPr>
          <p:sp>
            <p:nvSpPr>
              <p:cNvPr id="752" name=""/>
              <p:cNvSpPr/>
              <p:nvPr/>
            </p:nvSpPr>
            <p:spPr>
              <a:xfrm flipV="1">
                <a:off x="6218280" y="3026880"/>
                <a:ext cx="0" cy="2523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234120" y="3027240"/>
                <a:ext cx="511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257960" y="3244680"/>
                <a:ext cx="0" cy="2527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748200" y="3497400"/>
                <a:ext cx="5094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724800" y="3009960"/>
                <a:ext cx="0" cy="476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6224760" y="4654440"/>
              <a:ext cx="1039680" cy="487440"/>
              <a:chOff x="6224760" y="4654440"/>
              <a:chExt cx="1039680" cy="487440"/>
            </a:xfrm>
          </p:grpSpPr>
          <p:sp>
            <p:nvSpPr>
              <p:cNvPr id="758" name=""/>
              <p:cNvSpPr/>
              <p:nvPr/>
            </p:nvSpPr>
            <p:spPr>
              <a:xfrm flipV="1">
                <a:off x="7264440" y="4671360"/>
                <a:ext cx="0" cy="2523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6737400" y="4671720"/>
                <a:ext cx="511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24760" y="4889160"/>
                <a:ext cx="0" cy="2527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25120" y="5141880"/>
                <a:ext cx="5094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757920" y="4654440"/>
                <a:ext cx="0" cy="476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5EE-D8C3-4AA3-BD25-CB4C1F50DE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se are produced when a wave is reflected back o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original wave and it’s reflection interfere to form a standing w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y have constant positions of no motion (called a node) and maximum motion (called an antin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68320" y="4273560"/>
            <a:ext cx="7117560" cy="2050560"/>
            <a:chOff x="868320" y="4273560"/>
            <a:chExt cx="7117560" cy="2050560"/>
          </a:xfrm>
        </p:grpSpPr>
        <p:sp>
          <p:nvSpPr>
            <p:cNvPr id="766" name=""/>
            <p:cNvSpPr/>
            <p:nvPr/>
          </p:nvSpPr>
          <p:spPr>
            <a:xfrm>
              <a:off x="1075320" y="5599440"/>
              <a:ext cx="347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60560" y="4864680"/>
              <a:ext cx="3422160" cy="72504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073160" y="5598720"/>
              <a:ext cx="3422520" cy="72468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11240" y="4874400"/>
              <a:ext cx="0" cy="14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14640" y="5027400"/>
              <a:ext cx="0" cy="11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54200" y="5065200"/>
              <a:ext cx="0" cy="11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8320" y="493812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28920" y="4789440"/>
              <a:ext cx="6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97040" y="427356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24040" y="5599440"/>
              <a:ext cx="347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21880" y="4874400"/>
              <a:ext cx="3422160" cy="72468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421880" y="5598720"/>
              <a:ext cx="3422160" cy="72468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59600" y="4874400"/>
              <a:ext cx="0" cy="14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63000" y="5027400"/>
              <a:ext cx="0" cy="11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03280" y="5065200"/>
              <a:ext cx="0" cy="11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90240" y="501120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60800" y="4346640"/>
              <a:ext cx="4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8A2-C13F-4AC8-A3B8-745F18EA5E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312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Transverse W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916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particles that make up the wave vibrate at right angles to the direction of wave propa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: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066680" y="3718080"/>
            <a:ext cx="7010640" cy="2135160"/>
            <a:chOff x="1066680" y="3718080"/>
            <a:chExt cx="7010640" cy="2135160"/>
          </a:xfrm>
        </p:grpSpPr>
        <p:sp>
          <p:nvSpPr>
            <p:cNvPr id="101" name=""/>
            <p:cNvSpPr/>
            <p:nvPr/>
          </p:nvSpPr>
          <p:spPr>
            <a:xfrm>
              <a:off x="1066680" y="3718080"/>
              <a:ext cx="7010640" cy="213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40200" y="3922920"/>
              <a:ext cx="5183280" cy="1821960"/>
              <a:chOff x="2140200" y="3922920"/>
              <a:chExt cx="5183280" cy="1821960"/>
            </a:xfrm>
          </p:grpSpPr>
          <p:sp>
            <p:nvSpPr>
              <p:cNvPr id="103" name=""/>
              <p:cNvSpPr/>
              <p:nvPr/>
            </p:nvSpPr>
            <p:spPr>
              <a:xfrm>
                <a:off x="2140200" y="4838040"/>
                <a:ext cx="51832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40200" y="3922920"/>
                <a:ext cx="5183280" cy="182196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2550960" y="4090320"/>
              <a:ext cx="0" cy="30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50960" y="44298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82560" y="4357440"/>
              <a:ext cx="169920" cy="89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72600" y="4031280"/>
              <a:ext cx="2145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Times New Roman"/>
                </a:rPr>
                <a:t>Particle Mo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0200" y="4357440"/>
              <a:ext cx="19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78640" y="3850200"/>
              <a:ext cx="3247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Times New Roman"/>
                </a:rPr>
                <a:t>Direction of Wave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57C-8B5A-4CB2-AF6C-2602383CBA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 Source 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ving 2 sources of concentric waves will produce a pattern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re appear to be lines radiating out from between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29240" cy="44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7B5-BC5E-4C27-8D6D-A26EDBAF70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 Source 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ti-nodal lines are lines of constructive interference. ie the water is cho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dal lines are lines of destructive interference. ie the water is 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4724280" y="1600200"/>
            <a:ext cx="3729240" cy="4478400"/>
            <a:chOff x="4724280" y="1600200"/>
            <a:chExt cx="3729240" cy="4478400"/>
          </a:xfrm>
        </p:grpSpPr>
        <p:pic>
          <p:nvPicPr>
            <p:cNvPr id="789" name="" descr=""/>
            <p:cNvPicPr/>
            <p:nvPr/>
          </p:nvPicPr>
          <p:blipFill>
            <a:blip r:embed="rId1"/>
            <a:stretch/>
          </p:blipFill>
          <p:spPr>
            <a:xfrm>
              <a:off x="4724280" y="1600200"/>
              <a:ext cx="372924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 flipH="1" flipV="1">
              <a:off x="6476760" y="1828800"/>
              <a:ext cx="7596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5790960" y="1828800"/>
              <a:ext cx="60948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6705720" y="1828800"/>
              <a:ext cx="38088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781680" y="1905120"/>
              <a:ext cx="609840" cy="3047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629400" y="1905120"/>
              <a:ext cx="152280" cy="3124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6095520" y="1905120"/>
              <a:ext cx="381240" cy="3124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5486040" y="1980720"/>
              <a:ext cx="762120" cy="297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4C0-6FB4-4E07-8714-894CB09D1D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 Source 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n value is called the path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tells you how many wavelengths further one wave has traveled compared to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503280" y="2003400"/>
            <a:ext cx="4057200" cy="3767040"/>
            <a:chOff x="503280" y="2003400"/>
            <a:chExt cx="4057200" cy="3767040"/>
          </a:xfrm>
        </p:grpSpPr>
        <p:graphicFrame>
          <p:nvGraphicFramePr>
            <p:cNvPr id="800" name=""/>
            <p:cNvGraphicFramePr/>
            <p:nvPr/>
          </p:nvGraphicFramePr>
          <p:xfrm>
            <a:off x="582480" y="2155680"/>
            <a:ext cx="2533320" cy="35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2480" y="2155680"/>
                      <a:ext cx="2533320" cy="35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02" name=""/>
            <p:cNvGrpSpPr/>
            <p:nvPr/>
          </p:nvGrpSpPr>
          <p:grpSpPr>
            <a:xfrm>
              <a:off x="503280" y="2139480"/>
              <a:ext cx="160200" cy="3501720"/>
              <a:chOff x="503280" y="2139480"/>
              <a:chExt cx="160200" cy="3501720"/>
            </a:xfrm>
          </p:grpSpPr>
          <p:sp>
            <p:nvSpPr>
              <p:cNvPr id="803" name=""/>
              <p:cNvSpPr/>
              <p:nvPr/>
            </p:nvSpPr>
            <p:spPr>
              <a:xfrm>
                <a:off x="503280" y="2139480"/>
                <a:ext cx="160200" cy="11012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3280" y="4539960"/>
                <a:ext cx="160200" cy="11012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03280" y="3480120"/>
                <a:ext cx="144720" cy="854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3916080" y="3660480"/>
              <a:ext cx="6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16080" y="4703400"/>
              <a:ext cx="6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16080" y="2609640"/>
              <a:ext cx="6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87640" y="3847680"/>
              <a:ext cx="65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2997000" y="2763360"/>
              <a:ext cx="75672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87640" y="4676400"/>
              <a:ext cx="72504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59200" y="2003400"/>
              <a:ext cx="120240" cy="3767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85B-BC77-4CEC-92E3-43799D14E3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 Source 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78152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the waves were sound, a person walking from A to B would hear a series of loud and soft noises as they moved across the antinodal and noda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730080" y="1281240"/>
            <a:ext cx="3925800" cy="5049000"/>
            <a:chOff x="730080" y="1281240"/>
            <a:chExt cx="3925800" cy="5049000"/>
          </a:xfrm>
        </p:grpSpPr>
        <p:grpSp>
          <p:nvGrpSpPr>
            <p:cNvPr id="816" name=""/>
            <p:cNvGrpSpPr/>
            <p:nvPr/>
          </p:nvGrpSpPr>
          <p:grpSpPr>
            <a:xfrm>
              <a:off x="730080" y="1701720"/>
              <a:ext cx="200160" cy="4358880"/>
              <a:chOff x="730080" y="1701720"/>
              <a:chExt cx="200160" cy="4358880"/>
            </a:xfrm>
          </p:grpSpPr>
          <p:sp>
            <p:nvSpPr>
              <p:cNvPr id="817" name=""/>
              <p:cNvSpPr/>
              <p:nvPr/>
            </p:nvSpPr>
            <p:spPr>
              <a:xfrm>
                <a:off x="730080" y="1701720"/>
                <a:ext cx="200160" cy="137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30080" y="4689720"/>
                <a:ext cx="200160" cy="137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0080" y="3370680"/>
                <a:ext cx="180720" cy="10634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963720" y="1281240"/>
              <a:ext cx="3692160" cy="5049000"/>
              <a:chOff x="963720" y="1281240"/>
              <a:chExt cx="3692160" cy="5049000"/>
            </a:xfrm>
          </p:grpSpPr>
          <p:graphicFrame>
            <p:nvGraphicFramePr>
              <p:cNvPr id="821" name=""/>
              <p:cNvGraphicFramePr/>
              <p:nvPr/>
            </p:nvGraphicFramePr>
            <p:xfrm>
              <a:off x="963720" y="1789920"/>
              <a:ext cx="3053160" cy="433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63720" y="1789920"/>
                        <a:ext cx="3053160" cy="433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3" name=""/>
              <p:cNvSpPr/>
              <p:nvPr/>
            </p:nvSpPr>
            <p:spPr>
              <a:xfrm>
                <a:off x="3879360" y="5961960"/>
                <a:ext cx="7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764160" y="1281240"/>
                <a:ext cx="77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370760" y="1441080"/>
                <a:ext cx="0" cy="47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A82-0F50-4A61-9427-DA43D28E93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6204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09560" y="1193760"/>
            <a:ext cx="760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isible Light is part of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electromagnetic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303200" y="2322360"/>
            <a:ext cx="262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303200" y="6586560"/>
            <a:ext cx="262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03200" y="2322360"/>
            <a:ext cx="0" cy="84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802640" y="2322360"/>
            <a:ext cx="0" cy="84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29040" y="6586560"/>
            <a:ext cx="3873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802640" y="5749920"/>
            <a:ext cx="0" cy="836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929040" y="2322360"/>
            <a:ext cx="3873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03200" y="316872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02640" y="316872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03200" y="3814920"/>
            <a:ext cx="0" cy="6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802640" y="3814920"/>
            <a:ext cx="0" cy="6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03200" y="4459320"/>
            <a:ext cx="0" cy="6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02640" y="4459320"/>
            <a:ext cx="0" cy="6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03200" y="510372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802640" y="510372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303200" y="5749920"/>
            <a:ext cx="0" cy="836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71640" y="2189160"/>
            <a:ext cx="7145280" cy="4438800"/>
            <a:chOff x="971640" y="2189160"/>
            <a:chExt cx="7145280" cy="4438800"/>
          </a:xfrm>
        </p:grpSpPr>
        <p:sp>
          <p:nvSpPr>
            <p:cNvPr id="845" name=""/>
            <p:cNvSpPr/>
            <p:nvPr/>
          </p:nvSpPr>
          <p:spPr>
            <a:xfrm>
              <a:off x="971640" y="2189160"/>
              <a:ext cx="7145280" cy="443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29040" y="5749920"/>
              <a:ext cx="38736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Gamma R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22280" y="5616720"/>
              <a:ext cx="26258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High Ene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High 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hort Wave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29040" y="5103720"/>
              <a:ext cx="38736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X-r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03200" y="5103720"/>
              <a:ext cx="2625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29040" y="4459320"/>
              <a:ext cx="3873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Ultra Violet (U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03200" y="4459320"/>
              <a:ext cx="26258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929040" y="3814920"/>
              <a:ext cx="3873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Visible Lig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03200" y="3814920"/>
              <a:ext cx="26258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29040" y="3168720"/>
              <a:ext cx="38736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03200" y="3168720"/>
              <a:ext cx="2625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9040" y="2322360"/>
              <a:ext cx="387360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Radio Wav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Microwav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03200" y="2322360"/>
              <a:ext cx="262584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Low Ene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Low 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Long Wave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43360" y="2425680"/>
              <a:ext cx="0" cy="389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E21-0923-49E1-A2DD-4E3E67200F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Colour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2571840" y="2365200"/>
            <a:ext cx="4000320" cy="30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B00-6496-4338-88DE-4D20C83F21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40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31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70632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general, light travels in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ght spreads out in all directions from it’s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urther from the source the less the ill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486080" y="4051440"/>
            <a:ext cx="6700320" cy="2152440"/>
            <a:chOff x="1486080" y="4051440"/>
            <a:chExt cx="6700320" cy="2152440"/>
          </a:xfrm>
        </p:grpSpPr>
        <p:sp>
          <p:nvSpPr>
            <p:cNvPr id="864" name=""/>
            <p:cNvSpPr/>
            <p:nvPr/>
          </p:nvSpPr>
          <p:spPr>
            <a:xfrm>
              <a:off x="1487520" y="4051440"/>
              <a:ext cx="6698880" cy="215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1486080" y="4144680"/>
              <a:ext cx="6322680" cy="1941840"/>
              <a:chOff x="1486080" y="4144680"/>
              <a:chExt cx="6322680" cy="194184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2090880" y="4144680"/>
                <a:ext cx="5717880" cy="1941840"/>
                <a:chOff x="2090880" y="4144680"/>
                <a:chExt cx="5717880" cy="194184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2127960" y="5203440"/>
                  <a:ext cx="3662280" cy="23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5982000">
                  <a:off x="4452840" y="4595040"/>
                  <a:ext cx="1023120" cy="1112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5982000">
                  <a:off x="5936760" y="4212360"/>
                  <a:ext cx="1661400" cy="180612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dddddd">
                    <a:alpha val="97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090880" y="4192200"/>
                  <a:ext cx="4078080" cy="1033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2110320" y="4815000"/>
                  <a:ext cx="5698440" cy="39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110320" y="5215320"/>
                  <a:ext cx="5320080" cy="7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3" name=""/>
              <p:cNvSpPr/>
              <p:nvPr/>
            </p:nvSpPr>
            <p:spPr>
              <a:xfrm>
                <a:off x="1486080" y="5248440"/>
                <a:ext cx="1454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0000"/>
                    </a:solidFill>
                    <a:latin typeface="Times New Roman"/>
                  </a:rPr>
                  <a:t>Light Sour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2F7-288A-4445-9D23-B8DE54E4F8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17400" y="15508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light ray can be bounced off a flat surface. This is called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efl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aw of Reflectio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The angle of incidence = the angle of reflection. (Remember: angles are measured from the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625760" y="4629240"/>
            <a:ext cx="6230520" cy="1930320"/>
            <a:chOff x="1625760" y="4629240"/>
            <a:chExt cx="6230520" cy="1930320"/>
          </a:xfrm>
        </p:grpSpPr>
        <p:sp>
          <p:nvSpPr>
            <p:cNvPr id="877" name=""/>
            <p:cNvSpPr/>
            <p:nvPr/>
          </p:nvSpPr>
          <p:spPr>
            <a:xfrm>
              <a:off x="1625760" y="4629240"/>
              <a:ext cx="6230520" cy="19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302920" y="6164640"/>
              <a:ext cx="5261040" cy="10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762080" y="4832280"/>
              <a:ext cx="0" cy="1333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41320" y="4971960"/>
              <a:ext cx="212076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757400" y="4981320"/>
              <a:ext cx="2120760" cy="118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75640" y="5642280"/>
              <a:ext cx="1172520" cy="194040"/>
            </a:xfrm>
            <a:custGeom>
              <a:avLst/>
              <a:gdLst/>
              <a:ahLst/>
              <a:rect l="l" t="t" r="r" b="b"/>
              <a:pathLst>
                <a:path w="533" h="152">
                  <a:moveTo>
                    <a:pt x="0" y="152"/>
                  </a:moveTo>
                  <a:cubicBezTo>
                    <a:pt x="36" y="111"/>
                    <a:pt x="73" y="70"/>
                    <a:pt x="117" y="45"/>
                  </a:cubicBezTo>
                  <a:cubicBezTo>
                    <a:pt x="161" y="20"/>
                    <a:pt x="210" y="0"/>
                    <a:pt x="267" y="2"/>
                  </a:cubicBezTo>
                  <a:cubicBezTo>
                    <a:pt x="324" y="4"/>
                    <a:pt x="415" y="31"/>
                    <a:pt x="459" y="56"/>
                  </a:cubicBezTo>
                  <a:cubicBezTo>
                    <a:pt x="503" y="81"/>
                    <a:pt x="521" y="136"/>
                    <a:pt x="533" y="15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04920" y="5353200"/>
              <a:ext cx="698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63880" y="5380200"/>
              <a:ext cx="992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F93-342F-4615-9474-371F9D3FF2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Plan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form images, light rays have to meet or 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focus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laterally invert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by a plane mirror (ie. You wave left hand, image waves 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virtual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t is formed behind the mirror, in a place where no light actually went. (a real image is formed when light rays meet at a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1A1-87E1-41CD-B603-A91A1BCE78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Plan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525840" y="309600"/>
            <a:ext cx="4595040" cy="6145920"/>
            <a:chOff x="3525840" y="309600"/>
            <a:chExt cx="4595040" cy="6145920"/>
          </a:xfrm>
        </p:grpSpPr>
        <p:pic>
          <p:nvPicPr>
            <p:cNvPr id="889" name="" descr=""/>
            <p:cNvPicPr/>
            <p:nvPr/>
          </p:nvPicPr>
          <p:blipFill>
            <a:blip r:embed="rId1"/>
            <a:stretch/>
          </p:blipFill>
          <p:spPr>
            <a:xfrm>
              <a:off x="4064400" y="423000"/>
              <a:ext cx="579600" cy="24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3305520" y="4186800"/>
              <a:ext cx="1397160" cy="7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3"/>
            <a:stretch/>
          </p:blipFill>
          <p:spPr>
            <a:xfrm>
              <a:off x="7437600" y="390600"/>
              <a:ext cx="619200" cy="257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936400" y="309600"/>
              <a:ext cx="0" cy="469548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1160" y="1389240"/>
              <a:ext cx="1666440" cy="13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235400" y="2743920"/>
              <a:ext cx="1666440" cy="13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914440" y="1414080"/>
              <a:ext cx="1666440" cy="1325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26040" y="1389240"/>
              <a:ext cx="1680120" cy="178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426200" y="3200760"/>
              <a:ext cx="1491120" cy="16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5944680" y="1380240"/>
              <a:ext cx="1680120" cy="1782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95440" y="326160"/>
              <a:ext cx="0" cy="4646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25840" y="5264280"/>
              <a:ext cx="225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Light from object reflects into ey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521040" y="3204000"/>
              <a:ext cx="159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Eye sees image back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1039680" y="6605640"/>
            <a:ext cx="72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187 Questions 1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61F-7EA8-4400-B56B-E328D6857A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ongitudinal W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6640" y="1227240"/>
            <a:ext cx="734076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particles that make up the wave vibrate back and forth in the same direction as the direction of wave propa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: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81160" y="3860640"/>
            <a:ext cx="6502320" cy="2168640"/>
            <a:chOff x="1181160" y="3860640"/>
            <a:chExt cx="6502320" cy="2168640"/>
          </a:xfrm>
        </p:grpSpPr>
        <p:sp>
          <p:nvSpPr>
            <p:cNvPr id="114" name=""/>
            <p:cNvSpPr/>
            <p:nvPr/>
          </p:nvSpPr>
          <p:spPr>
            <a:xfrm>
              <a:off x="1181160" y="3860640"/>
              <a:ext cx="6502320" cy="21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775880" y="4659480"/>
              <a:ext cx="5058360" cy="1165680"/>
              <a:chOff x="1775880" y="4659480"/>
              <a:chExt cx="5058360" cy="116568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1775880" y="4659480"/>
                <a:ext cx="2214720" cy="1165680"/>
                <a:chOff x="1775880" y="4659480"/>
                <a:chExt cx="2214720" cy="11656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77588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9652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86704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71980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3372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34764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9060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619520" y="4659480"/>
                <a:ext cx="2214720" cy="1165680"/>
                <a:chOff x="4619520" y="4659480"/>
                <a:chExt cx="2214720" cy="11656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61952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4016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71068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56344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87736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9128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83424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3000960" y="5204520"/>
              <a:ext cx="760680" cy="106560"/>
              <a:chOff x="3000960" y="5204520"/>
              <a:chExt cx="760680" cy="106560"/>
            </a:xfrm>
          </p:grpSpPr>
          <p:sp>
            <p:nvSpPr>
              <p:cNvPr id="133" name=""/>
              <p:cNvSpPr/>
              <p:nvPr/>
            </p:nvSpPr>
            <p:spPr>
              <a:xfrm>
                <a:off x="3298680" y="5204520"/>
                <a:ext cx="139320" cy="10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3000960" y="5243760"/>
                <a:ext cx="3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65640" y="5243040"/>
                <a:ext cx="39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103000" y="3873240"/>
              <a:ext cx="23994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Times New Roman"/>
                </a:rPr>
                <a:t>Direction Of Wave Propag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0920" y="4495320"/>
              <a:ext cx="18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02680" y="4000680"/>
              <a:ext cx="11412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Times New Roman"/>
                </a:rPr>
                <a:t>Particle Mo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0AF-9032-44DA-8AFD-1A3C625678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urved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entre of the mirror is called the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p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line at right angles to this is called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rincipal axi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focal lengt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f a mirror is half the radius of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adius of curvatur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s the radius of the ball that the mirror would have been cut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55F-49A0-445A-A13A-174A56207D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39720" y="16524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urved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73120" y="104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 = centre of curvatur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 = radius of curv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 = Focal point or focus   f = focal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 = principal axis            P = 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74640" y="3693960"/>
            <a:ext cx="7698960" cy="2995920"/>
            <a:chOff x="674640" y="3693960"/>
            <a:chExt cx="7698960" cy="2995920"/>
          </a:xfrm>
        </p:grpSpPr>
        <p:sp>
          <p:nvSpPr>
            <p:cNvPr id="908" name=""/>
            <p:cNvSpPr/>
            <p:nvPr/>
          </p:nvSpPr>
          <p:spPr>
            <a:xfrm>
              <a:off x="674640" y="3693960"/>
              <a:ext cx="7698960" cy="299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52480" y="3849480"/>
              <a:ext cx="2079000" cy="26755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70680" y="3985200"/>
              <a:ext cx="2100240" cy="242676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74400" y="3769920"/>
              <a:ext cx="1557720" cy="28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33040" y="5142240"/>
              <a:ext cx="6367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55320" y="5041080"/>
              <a:ext cx="234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95400" y="5037480"/>
              <a:ext cx="2340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05240" y="5243400"/>
              <a:ext cx="58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91360" y="5194440"/>
              <a:ext cx="83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61440" y="5129280"/>
              <a:ext cx="7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99720" y="4837320"/>
              <a:ext cx="442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15080" y="4457880"/>
              <a:ext cx="37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47520" y="4887360"/>
              <a:ext cx="10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897440" y="5560920"/>
              <a:ext cx="23266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66040" y="5548320"/>
              <a:ext cx="8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2EE-37BE-4F2D-A167-2F707D68A3A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cav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cave (or converging)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rrors focus light at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00200" y="2724120"/>
            <a:ext cx="7698960" cy="3282480"/>
            <a:chOff x="700200" y="2724120"/>
            <a:chExt cx="7698960" cy="3282480"/>
          </a:xfrm>
        </p:grpSpPr>
        <p:sp>
          <p:nvSpPr>
            <p:cNvPr id="926" name=""/>
            <p:cNvSpPr/>
            <p:nvPr/>
          </p:nvSpPr>
          <p:spPr>
            <a:xfrm>
              <a:off x="700200" y="2724120"/>
              <a:ext cx="7698960" cy="328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469760" y="3198960"/>
              <a:ext cx="2463480" cy="2391120"/>
              <a:chOff x="4469760" y="3198960"/>
              <a:chExt cx="2463480" cy="2391120"/>
            </a:xfrm>
          </p:grpSpPr>
          <p:sp>
            <p:nvSpPr>
              <p:cNvPr id="928" name=""/>
              <p:cNvSpPr/>
              <p:nvPr/>
            </p:nvSpPr>
            <p:spPr>
              <a:xfrm>
                <a:off x="4854960" y="3275280"/>
                <a:ext cx="2078280" cy="22395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673160" y="3389400"/>
                <a:ext cx="2099160" cy="2031840"/>
              </a:xfrm>
              <a:prstGeom prst="flowChartDelay">
                <a:avLst/>
              </a:prstGeom>
              <a:solidFill>
                <a:srgbClr val="ffffff"/>
              </a:soli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469760" y="3198960"/>
                <a:ext cx="1197720" cy="239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 flipH="1">
              <a:off x="1015200" y="4394880"/>
              <a:ext cx="5689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00520" y="4204440"/>
              <a:ext cx="2340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97360" y="3957120"/>
              <a:ext cx="541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218600" y="3577680"/>
              <a:ext cx="50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41640" y="483048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194840" y="5209560"/>
              <a:ext cx="513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584240" y="3577680"/>
              <a:ext cx="1693440" cy="19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018680" y="3939120"/>
              <a:ext cx="2597400" cy="11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4086720" y="3710880"/>
              <a:ext cx="2550960" cy="11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4560840" y="3141720"/>
              <a:ext cx="1737720" cy="206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7D2-0519-41CD-BE2A-8978FBB7D0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542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vex Mirro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2396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mirrors have a focal point behind the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(or diverging) mirrors spread the light rays apart so that they appear to have come from the focal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23920" y="3657600"/>
            <a:ext cx="5088240" cy="2908440"/>
            <a:chOff x="2023920" y="3657600"/>
            <a:chExt cx="5088240" cy="2908440"/>
          </a:xfrm>
        </p:grpSpPr>
        <p:sp>
          <p:nvSpPr>
            <p:cNvPr id="944" name=""/>
            <p:cNvSpPr/>
            <p:nvPr/>
          </p:nvSpPr>
          <p:spPr>
            <a:xfrm>
              <a:off x="2023920" y="3657600"/>
              <a:ext cx="5088240" cy="290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2074320" y="3809520"/>
              <a:ext cx="4885920" cy="2527560"/>
              <a:chOff x="2074320" y="3809520"/>
              <a:chExt cx="4885920" cy="2527560"/>
            </a:xfrm>
          </p:grpSpPr>
          <p:grpSp>
            <p:nvGrpSpPr>
              <p:cNvPr id="946" name=""/>
              <p:cNvGrpSpPr/>
              <p:nvPr/>
            </p:nvGrpSpPr>
            <p:grpSpPr>
              <a:xfrm>
                <a:off x="4669200" y="4363200"/>
                <a:ext cx="1615320" cy="1600200"/>
                <a:chOff x="4669200" y="4363200"/>
                <a:chExt cx="1615320" cy="1600200"/>
              </a:xfrm>
            </p:grpSpPr>
            <p:sp>
              <p:nvSpPr>
                <p:cNvPr id="947" name=""/>
                <p:cNvSpPr/>
                <p:nvPr/>
              </p:nvSpPr>
              <p:spPr>
                <a:xfrm flipH="1">
                  <a:off x="4668840" y="4478760"/>
                  <a:ext cx="1566360" cy="1359720"/>
                </a:xfrm>
                <a:prstGeom prst="flowChartDelay">
                  <a:avLst/>
                </a:prstGeom>
                <a:solidFill>
                  <a:srgbClr val="ffffff"/>
                </a:solidFill>
                <a:ln w="54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4767120" y="4581000"/>
                  <a:ext cx="1348560" cy="1181160"/>
                </a:xfrm>
                <a:prstGeom prst="flowChartDelay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5390280" y="4363200"/>
                  <a:ext cx="893880" cy="160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2074320" y="5155920"/>
                <a:ext cx="488592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309400" y="4876200"/>
                <a:ext cx="240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292120" y="4584600"/>
                <a:ext cx="2696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60520" y="5409720"/>
                <a:ext cx="232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27040" y="5714280"/>
                <a:ext cx="264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51320" y="5041440"/>
                <a:ext cx="16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71240" y="4584600"/>
                <a:ext cx="1179720" cy="5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18520" y="4876200"/>
                <a:ext cx="1432800" cy="27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4718520" y="5155920"/>
                <a:ext cx="1432800" cy="25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5006160" y="5155920"/>
                <a:ext cx="1145160" cy="55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>
                <a:off x="3403800" y="3809520"/>
                <a:ext cx="1601640" cy="78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2612520" y="4418640"/>
                <a:ext cx="2140200" cy="44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2494440" y="5397840"/>
                <a:ext cx="2258640" cy="4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3641400" y="5676480"/>
                <a:ext cx="1397520" cy="66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E5F-BBBA-4C5D-90A6-332975F5D6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663560"/>
            <a:ext cx="71708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d to find the size, nature and position of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ature of an image formed by a mirror or lens can be described according to 3 characteristics: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) upright or inve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) magnified, diminished or the sam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) Real or 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3AE-9E86-4131-9975-3501505040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ule One: An incident ray parallel to the pa is reflected back through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438280" y="2913120"/>
            <a:ext cx="5005440" cy="3601800"/>
            <a:chOff x="2438280" y="2913120"/>
            <a:chExt cx="5005440" cy="3601800"/>
          </a:xfrm>
        </p:grpSpPr>
        <p:grpSp>
          <p:nvGrpSpPr>
            <p:cNvPr id="969" name=""/>
            <p:cNvGrpSpPr/>
            <p:nvPr/>
          </p:nvGrpSpPr>
          <p:grpSpPr>
            <a:xfrm>
              <a:off x="2438280" y="2913120"/>
              <a:ext cx="5005440" cy="3601800"/>
              <a:chOff x="2438280" y="2913120"/>
              <a:chExt cx="5005440" cy="3601800"/>
            </a:xfrm>
          </p:grpSpPr>
          <p:sp>
            <p:nvSpPr>
              <p:cNvPr id="970" name=""/>
              <p:cNvSpPr/>
              <p:nvPr/>
            </p:nvSpPr>
            <p:spPr>
              <a:xfrm>
                <a:off x="2438280" y="2913120"/>
                <a:ext cx="5005440" cy="360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1" name=""/>
              <p:cNvGrpSpPr/>
              <p:nvPr/>
            </p:nvGrpSpPr>
            <p:grpSpPr>
              <a:xfrm>
                <a:off x="4889160" y="3434400"/>
                <a:ext cx="1601640" cy="2622600"/>
                <a:chOff x="4889160" y="3434400"/>
                <a:chExt cx="1601640" cy="26226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5139720" y="3518280"/>
                  <a:ext cx="1351080" cy="2456280"/>
                </a:xfrm>
                <a:prstGeom prst="flowChartDelay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21280" y="3643200"/>
                  <a:ext cx="1365120" cy="2228400"/>
                </a:xfrm>
                <a:prstGeom prst="flowChartDelay">
                  <a:avLst/>
                </a:prstGeom>
                <a:solidFill>
                  <a:srgbClr val="ffffff"/>
                </a:solidFill>
                <a:ln w="54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889160" y="3434400"/>
                  <a:ext cx="778680" cy="262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5" name=""/>
              <p:cNvSpPr/>
              <p:nvPr/>
            </p:nvSpPr>
            <p:spPr>
              <a:xfrm flipH="1">
                <a:off x="2642760" y="4746240"/>
                <a:ext cx="369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286960" y="4570200"/>
                <a:ext cx="14760" cy="35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775240" y="3850560"/>
                <a:ext cx="328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4493880" y="3850560"/>
                <a:ext cx="1569960" cy="18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79" name="" descr=""/>
            <p:cNvPicPr/>
            <p:nvPr/>
          </p:nvPicPr>
          <p:blipFill>
            <a:blip r:embed="rId1"/>
            <a:stretch/>
          </p:blipFill>
          <p:spPr>
            <a:xfrm>
              <a:off x="2659680" y="3287520"/>
              <a:ext cx="305280" cy="14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6FB-D59E-44EE-8D28-1A05DF679B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43040" y="16192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ule Two: An incident ray headed towards the pole reflects back at an equal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477800" y="3411360"/>
            <a:ext cx="5034240" cy="2901960"/>
            <a:chOff x="1477800" y="3411360"/>
            <a:chExt cx="5034240" cy="2901960"/>
          </a:xfrm>
        </p:grpSpPr>
        <p:grpSp>
          <p:nvGrpSpPr>
            <p:cNvPr id="983" name=""/>
            <p:cNvGrpSpPr/>
            <p:nvPr/>
          </p:nvGrpSpPr>
          <p:grpSpPr>
            <a:xfrm>
              <a:off x="1477800" y="3411360"/>
              <a:ext cx="5034240" cy="2901960"/>
              <a:chOff x="1477800" y="3411360"/>
              <a:chExt cx="5034240" cy="2901960"/>
            </a:xfrm>
          </p:grpSpPr>
          <p:sp>
            <p:nvSpPr>
              <p:cNvPr id="984" name=""/>
              <p:cNvSpPr/>
              <p:nvPr/>
            </p:nvSpPr>
            <p:spPr>
              <a:xfrm>
                <a:off x="1477800" y="3411360"/>
                <a:ext cx="5034240" cy="2901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3927240" y="3818160"/>
                <a:ext cx="1610280" cy="2112840"/>
                <a:chOff x="3927240" y="3818160"/>
                <a:chExt cx="1610280" cy="21128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4178880" y="3885840"/>
                  <a:ext cx="1358640" cy="1978560"/>
                </a:xfrm>
                <a:prstGeom prst="flowChartDelay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060080" y="3986280"/>
                  <a:ext cx="1372320" cy="1794960"/>
                </a:xfrm>
                <a:prstGeom prst="flowChartDelay">
                  <a:avLst/>
                </a:prstGeom>
                <a:solidFill>
                  <a:srgbClr val="ffffff"/>
                </a:solidFill>
                <a:ln w="54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927240" y="3818160"/>
                  <a:ext cx="783000" cy="211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"/>
              <p:cNvSpPr/>
              <p:nvPr/>
            </p:nvSpPr>
            <p:spPr>
              <a:xfrm flipH="1">
                <a:off x="1684080" y="4888440"/>
                <a:ext cx="371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343040" y="4745880"/>
                <a:ext cx="1548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816200" y="4167000"/>
                <a:ext cx="362736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2073240" y="4898880"/>
                <a:ext cx="3368520" cy="71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3" name="" descr=""/>
            <p:cNvPicPr/>
            <p:nvPr/>
          </p:nvPicPr>
          <p:blipFill>
            <a:blip r:embed="rId1"/>
            <a:stretch/>
          </p:blipFill>
          <p:spPr>
            <a:xfrm>
              <a:off x="1684800" y="3691440"/>
              <a:ext cx="383760" cy="120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91D-7491-4F81-8BF8-732E61B95D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708120" y="166356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ule Three: An incident ray that passes through the focal point on the way to the mirror is reflected back parallel to the 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994040" y="3745080"/>
            <a:ext cx="4898880" cy="2786040"/>
            <a:chOff x="1994040" y="3745080"/>
            <a:chExt cx="4898880" cy="2786040"/>
          </a:xfrm>
        </p:grpSpPr>
        <p:grpSp>
          <p:nvGrpSpPr>
            <p:cNvPr id="997" name=""/>
            <p:cNvGrpSpPr/>
            <p:nvPr/>
          </p:nvGrpSpPr>
          <p:grpSpPr>
            <a:xfrm>
              <a:off x="1994040" y="3745080"/>
              <a:ext cx="4898880" cy="2786040"/>
              <a:chOff x="1994040" y="3745080"/>
              <a:chExt cx="4898880" cy="2786040"/>
            </a:xfrm>
          </p:grpSpPr>
          <p:sp>
            <p:nvSpPr>
              <p:cNvPr id="998" name=""/>
              <p:cNvSpPr/>
              <p:nvPr/>
            </p:nvSpPr>
            <p:spPr>
              <a:xfrm>
                <a:off x="1994040" y="3745080"/>
                <a:ext cx="4898880" cy="27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68960" y="4031640"/>
                <a:ext cx="367560" cy="1136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0" name=""/>
            <p:cNvGrpSpPr/>
            <p:nvPr/>
          </p:nvGrpSpPr>
          <p:grpSpPr>
            <a:xfrm>
              <a:off x="4770000" y="4149720"/>
              <a:ext cx="1567080" cy="2028240"/>
              <a:chOff x="4770000" y="4149720"/>
              <a:chExt cx="1567080" cy="2028240"/>
            </a:xfrm>
          </p:grpSpPr>
          <p:sp>
            <p:nvSpPr>
              <p:cNvPr id="1001" name=""/>
              <p:cNvSpPr/>
              <p:nvPr/>
            </p:nvSpPr>
            <p:spPr>
              <a:xfrm>
                <a:off x="5015160" y="4214520"/>
                <a:ext cx="1321920" cy="18993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899240" y="4311000"/>
                <a:ext cx="1335240" cy="1723320"/>
              </a:xfrm>
              <a:prstGeom prst="flowChartDelay">
                <a:avLst/>
              </a:prstGeom>
              <a:solidFill>
                <a:srgbClr val="ffffff"/>
              </a:soli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770000" y="4149720"/>
                <a:ext cx="761760" cy="20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 flipH="1">
              <a:off x="2587320" y="5177520"/>
              <a:ext cx="368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74280" y="5040000"/>
              <a:ext cx="15120" cy="27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715840" y="4484520"/>
              <a:ext cx="3497760" cy="10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3243240" y="5485320"/>
              <a:ext cx="29026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B08-2B8A-4AE5-9305-696033B716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39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93800" y="1002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three combined allow you to find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is example the image is inverted, diminished and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1487520" y="3076560"/>
            <a:ext cx="6025680" cy="3335400"/>
            <a:chOff x="1487520" y="3076560"/>
            <a:chExt cx="6025680" cy="3335400"/>
          </a:xfrm>
        </p:grpSpPr>
        <p:sp>
          <p:nvSpPr>
            <p:cNvPr id="1011" name=""/>
            <p:cNvSpPr/>
            <p:nvPr/>
          </p:nvSpPr>
          <p:spPr>
            <a:xfrm>
              <a:off x="1487520" y="3076560"/>
              <a:ext cx="6025680" cy="33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2" name="" descr=""/>
            <p:cNvPicPr/>
            <p:nvPr/>
          </p:nvPicPr>
          <p:blipFill>
            <a:blip r:embed="rId1"/>
            <a:stretch/>
          </p:blipFill>
          <p:spPr>
            <a:xfrm>
              <a:off x="2194920" y="3419280"/>
              <a:ext cx="452520" cy="136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3" name=""/>
            <p:cNvGrpSpPr/>
            <p:nvPr/>
          </p:nvGrpSpPr>
          <p:grpSpPr>
            <a:xfrm>
              <a:off x="4902120" y="3560400"/>
              <a:ext cx="1927440" cy="2427840"/>
              <a:chOff x="4902120" y="3560400"/>
              <a:chExt cx="1927440" cy="2427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5203440" y="3638160"/>
                <a:ext cx="1626120" cy="22737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61240" y="3753720"/>
                <a:ext cx="1642680" cy="2062800"/>
              </a:xfrm>
              <a:prstGeom prst="flowChartDelay">
                <a:avLst/>
              </a:prstGeom>
              <a:solidFill>
                <a:srgbClr val="ffffff"/>
              </a:soli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02120" y="3560400"/>
                <a:ext cx="937080" cy="242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 flipH="1">
              <a:off x="2217600" y="4791240"/>
              <a:ext cx="4533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99440" y="4641840"/>
              <a:ext cx="1872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74920" y="3961440"/>
              <a:ext cx="4101840" cy="148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2345040" y="5438520"/>
              <a:ext cx="40716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86440" y="3953160"/>
              <a:ext cx="394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766960" y="3952080"/>
              <a:ext cx="3562920" cy="185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86440" y="3953160"/>
              <a:ext cx="426492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25400" y="4791240"/>
              <a:ext cx="4126320" cy="8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3372120" y="4797720"/>
              <a:ext cx="358200" cy="107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E80-ADF2-400F-B797-1947FE4BE20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7476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ame can be applied to convex mirrors with a few small chang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convex mirror images ar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ir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353960" y="2952720"/>
            <a:ext cx="5751360" cy="3286080"/>
            <a:chOff x="1353960" y="2952720"/>
            <a:chExt cx="5751360" cy="3286080"/>
          </a:xfrm>
        </p:grpSpPr>
        <p:sp>
          <p:nvSpPr>
            <p:cNvPr id="1029" name=""/>
            <p:cNvSpPr/>
            <p:nvPr/>
          </p:nvSpPr>
          <p:spPr>
            <a:xfrm>
              <a:off x="1353960" y="2952720"/>
              <a:ext cx="5751360" cy="328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0" name="" descr=""/>
            <p:cNvPicPr/>
            <p:nvPr/>
          </p:nvPicPr>
          <p:blipFill>
            <a:blip r:embed="rId1"/>
            <a:stretch/>
          </p:blipFill>
          <p:spPr>
            <a:xfrm>
              <a:off x="2066040" y="3296880"/>
              <a:ext cx="431640" cy="152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4753440" y="3510720"/>
              <a:ext cx="1683360" cy="2723760"/>
              <a:chOff x="4753440" y="3510720"/>
              <a:chExt cx="1683360" cy="27237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4753080" y="3727080"/>
                <a:ext cx="1567800" cy="2314080"/>
              </a:xfrm>
              <a:prstGeom prst="flowChartDelay">
                <a:avLst/>
              </a:prstGeom>
              <a:solidFill>
                <a:srgbClr val="ffffff"/>
              </a:soli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4861800" y="3781080"/>
                <a:ext cx="1552680" cy="22143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5542560" y="3510720"/>
                <a:ext cx="894240" cy="27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 flipH="1">
              <a:off x="2087640" y="4835880"/>
              <a:ext cx="432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13680" y="4655160"/>
              <a:ext cx="1800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38480" y="3903840"/>
              <a:ext cx="2520360" cy="9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48200" y="3868200"/>
              <a:ext cx="287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307240" y="4838760"/>
              <a:ext cx="2451600" cy="89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66920" y="3910680"/>
              <a:ext cx="253692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1601640" y="4420080"/>
              <a:ext cx="322560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2" name="" descr=""/>
            <p:cNvPicPr/>
            <p:nvPr/>
          </p:nvPicPr>
          <p:blipFill>
            <a:blip r:embed="rId2"/>
            <a:stretch/>
          </p:blipFill>
          <p:spPr>
            <a:xfrm>
              <a:off x="5737320" y="4144320"/>
              <a:ext cx="19224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5124240" y="3867120"/>
              <a:ext cx="1749960" cy="1393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 flipV="1">
              <a:off x="4140720" y="3092400"/>
              <a:ext cx="98316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4819320" y="4416120"/>
              <a:ext cx="1947960" cy="12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4749120" y="4133520"/>
              <a:ext cx="1768680" cy="70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3EF-37BA-4035-99EF-C3D64E6E7A0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1360" y="115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Amplitud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- The distance from the undisturbed position of the particle to it’s maximum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me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39840" y="3975120"/>
            <a:ext cx="6705360" cy="2038320"/>
            <a:chOff x="1239840" y="3975120"/>
            <a:chExt cx="6705360" cy="2038320"/>
          </a:xfrm>
        </p:grpSpPr>
        <p:sp>
          <p:nvSpPr>
            <p:cNvPr id="142" name=""/>
            <p:cNvSpPr/>
            <p:nvPr/>
          </p:nvSpPr>
          <p:spPr>
            <a:xfrm>
              <a:off x="1239840" y="3975120"/>
              <a:ext cx="6705360" cy="20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2241720" y="4170600"/>
              <a:ext cx="4957200" cy="1739160"/>
              <a:chOff x="2241720" y="4170600"/>
              <a:chExt cx="4957200" cy="1739160"/>
            </a:xfrm>
          </p:grpSpPr>
          <p:sp>
            <p:nvSpPr>
              <p:cNvPr id="144" name=""/>
              <p:cNvSpPr/>
              <p:nvPr/>
            </p:nvSpPr>
            <p:spPr>
              <a:xfrm>
                <a:off x="2241720" y="5043960"/>
                <a:ext cx="4957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41720" y="4170600"/>
                <a:ext cx="4957200" cy="173916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V="1">
              <a:off x="3425760" y="4156920"/>
              <a:ext cx="2160" cy="87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69480" y="4412160"/>
              <a:ext cx="23565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mplit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8A5-9CEC-4941-A91A-5593D66B4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Mirror Formula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440" y="1644480"/>
            <a:ext cx="732636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scartes’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=magnifica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=height of  image 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=distance from mirror to image 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stances behind the mirror a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4425840" y="1658880"/>
                <a:ext cx="20653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4046400" y="2898720"/>
                <a:ext cx="23828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2DB-3881-4C31-BF7C-B55B0F7277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Mirror Formula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82784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ewton’s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=distance from focal point to image 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ll distances are positive but care must be taken calculating S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r S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 It is usually necessary to sketch a ray diagram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4336920" y="1765440"/>
                <a:ext cx="3302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213080" y="2757600"/>
                <a:ext cx="2909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5" name=""/>
          <p:cNvSpPr/>
          <p:nvPr/>
        </p:nvSpPr>
        <p:spPr>
          <a:xfrm>
            <a:off x="677880" y="6445080"/>
            <a:ext cx="73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195 Questions 1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3EA-1EC9-46A4-A45C-D94690C9BA4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8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raction of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46200" y="1066680"/>
            <a:ext cx="79437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bending of light as it goes from one medium in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1706400" y="2612880"/>
            <a:ext cx="6286320" cy="3315960"/>
            <a:chOff x="1706400" y="2612880"/>
            <a:chExt cx="6286320" cy="3315960"/>
          </a:xfrm>
        </p:grpSpPr>
        <p:sp>
          <p:nvSpPr>
            <p:cNvPr id="1059" name=""/>
            <p:cNvSpPr/>
            <p:nvPr/>
          </p:nvSpPr>
          <p:spPr>
            <a:xfrm>
              <a:off x="1806120" y="2612880"/>
              <a:ext cx="5977800" cy="331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740480" y="2960280"/>
              <a:ext cx="0" cy="28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748600" y="2802240"/>
              <a:ext cx="2008800" cy="1868040"/>
              <a:chOff x="2748600" y="2802240"/>
              <a:chExt cx="2008800" cy="18680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2748600" y="2802240"/>
                <a:ext cx="1165680" cy="705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3053520" y="2995920"/>
                <a:ext cx="1165680" cy="705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3358440" y="3189240"/>
                <a:ext cx="1165680" cy="706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3662640" y="3417120"/>
                <a:ext cx="1094040" cy="671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3968280" y="3792960"/>
                <a:ext cx="789120" cy="489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4273200" y="4180680"/>
                <a:ext cx="483840" cy="295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4577760" y="4567680"/>
                <a:ext cx="179280" cy="102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4758120" y="3506760"/>
              <a:ext cx="1633320" cy="1516680"/>
              <a:chOff x="4758120" y="3506760"/>
              <a:chExt cx="1633320" cy="151668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4758120" y="3506760"/>
                <a:ext cx="573840" cy="1060200"/>
                <a:chOff x="4758120" y="3506760"/>
                <a:chExt cx="573840" cy="1060200"/>
              </a:xfrm>
            </p:grpSpPr>
            <p:sp>
              <p:nvSpPr>
                <p:cNvPr id="1071" name=""/>
                <p:cNvSpPr/>
                <p:nvPr/>
              </p:nvSpPr>
              <p:spPr>
                <a:xfrm flipV="1">
                  <a:off x="4758120" y="3506760"/>
                  <a:ext cx="143280" cy="2847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4758120" y="3552480"/>
                  <a:ext cx="376560" cy="6156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4758120" y="3643560"/>
                  <a:ext cx="573840" cy="9234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 flipV="1">
                <a:off x="4865760" y="3700440"/>
                <a:ext cx="663840" cy="109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5099400" y="3735000"/>
                <a:ext cx="663840" cy="10944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5296680" y="3826080"/>
                <a:ext cx="663840" cy="109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5511960" y="3860280"/>
                <a:ext cx="663840" cy="109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5727240" y="3929040"/>
                <a:ext cx="664200" cy="10944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3286800" y="3177360"/>
              <a:ext cx="1453680" cy="90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40480" y="4078080"/>
              <a:ext cx="161604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706400" y="3637440"/>
              <a:ext cx="28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Incid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37000" y="4016880"/>
              <a:ext cx="17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Ref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86200" y="4068360"/>
              <a:ext cx="52131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73680" y="3728520"/>
              <a:ext cx="226800" cy="32580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0" y="229"/>
                  </a:moveTo>
                  <a:cubicBezTo>
                    <a:pt x="40" y="133"/>
                    <a:pt x="81" y="37"/>
                    <a:pt x="1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451480" y="4054320"/>
              <a:ext cx="6228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7E0-608E-486B-9889-90C5A9F72D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nell’s La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94960" y="2762280"/>
            <a:ext cx="779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n= refractive inde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= angle of incidence/re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v= wave spe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= waveleng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Medium 1 is the one the light is leav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Medium 2 is the one it is enter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1468440" y="1725480"/>
            <a:ext cx="6270120" cy="1107720"/>
            <a:chOff x="1468440" y="1725480"/>
            <a:chExt cx="6270120" cy="1107720"/>
          </a:xfrm>
        </p:grpSpPr>
        <mc:AlternateContent>
          <mc:Choice xmlns:a14="http://schemas.microsoft.com/office/drawing/2010/main" Requires="a14">
            <p:sp>
              <p:nvSpPr>
                <p:cNvPr id="1089" name=""/>
                <p:cNvSpPr txBox="1"/>
                <p:nvPr/>
              </p:nvSpPr>
              <p:spPr>
                <a:xfrm>
                  <a:off x="1565280" y="1901160"/>
                  <a:ext cx="5940720" cy="90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90" name=""/>
            <p:cNvSpPr/>
            <p:nvPr/>
          </p:nvSpPr>
          <p:spPr>
            <a:xfrm>
              <a:off x="1468440" y="1725480"/>
              <a:ext cx="6270120" cy="11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974880" y="6521400"/>
            <a:ext cx="81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203 Questions 13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F76-46C1-4E9E-A79D-F755C64E1F2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72396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Total Internal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1720" y="2195280"/>
            <a:ext cx="7772400" cy="34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light travels from a high to low refractive index, it bends away from the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particular angle of incidence will cause the light to refract at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º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,  ie along the boundary between the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F9E-F357-4D35-9B6A-B8C2C058BE6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Total Internal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angle of incidence is called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ritical angl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lang="en-NZ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can be calculated by putting 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º into Snell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744560" y="4054320"/>
            <a:ext cx="5976720" cy="2040120"/>
            <a:chOff x="1744560" y="4054320"/>
            <a:chExt cx="5976720" cy="2040120"/>
          </a:xfrm>
        </p:grpSpPr>
        <p:sp>
          <p:nvSpPr>
            <p:cNvPr id="1097" name=""/>
            <p:cNvSpPr/>
            <p:nvPr/>
          </p:nvSpPr>
          <p:spPr>
            <a:xfrm>
              <a:off x="1744560" y="4054320"/>
              <a:ext cx="5976720" cy="204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97920" y="4555080"/>
              <a:ext cx="76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47000" y="5124240"/>
              <a:ext cx="231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Refraction=9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15720" y="4203000"/>
              <a:ext cx="0" cy="174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25960" y="4173120"/>
              <a:ext cx="1627200" cy="7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4842720" y="4900320"/>
              <a:ext cx="10440" cy="10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61440" y="4883760"/>
              <a:ext cx="52106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123440" y="4686120"/>
              <a:ext cx="226440" cy="19980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0" y="229"/>
                  </a:moveTo>
                  <a:cubicBezTo>
                    <a:pt x="40" y="133"/>
                    <a:pt x="81" y="37"/>
                    <a:pt x="1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62760" y="4885920"/>
              <a:ext cx="122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4817160" y="5094000"/>
              <a:ext cx="36612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0A5-238C-4509-9E3A-E018DAEDB8A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4764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Total Internal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743040" y="1503000"/>
            <a:ext cx="777240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the critical angle is exceeded, the light will reflect off the inside surface of the medium it is trying to escape fr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Total Internal Ref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1801800" y="4032360"/>
            <a:ext cx="4816080" cy="2182680"/>
            <a:chOff x="1801800" y="4032360"/>
            <a:chExt cx="4816080" cy="2182680"/>
          </a:xfrm>
        </p:grpSpPr>
        <p:sp>
          <p:nvSpPr>
            <p:cNvPr id="1110" name=""/>
            <p:cNvSpPr/>
            <p:nvPr/>
          </p:nvSpPr>
          <p:spPr>
            <a:xfrm>
              <a:off x="1801800" y="4032360"/>
              <a:ext cx="4816080" cy="21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73000" y="4621680"/>
              <a:ext cx="142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N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860480" y="549432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lected 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15000" y="4202280"/>
              <a:ext cx="0" cy="174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25600" y="4172760"/>
              <a:ext cx="1569960" cy="9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61080" y="5079960"/>
              <a:ext cx="431928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871080" y="4784760"/>
              <a:ext cx="380880" cy="29736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0" y="229"/>
                  </a:moveTo>
                  <a:cubicBezTo>
                    <a:pt x="40" y="133"/>
                    <a:pt x="81" y="37"/>
                    <a:pt x="1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223440" y="5107320"/>
              <a:ext cx="1569960" cy="9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8E0-FD46-48A1-AE34-E1F636586F0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Total Internal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the principle behind fibre optic cables which are used in medicine an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330120" y="3624120"/>
            <a:ext cx="8457840" cy="2536920"/>
            <a:chOff x="330120" y="3624120"/>
            <a:chExt cx="8457840" cy="2536920"/>
          </a:xfrm>
        </p:grpSpPr>
        <p:sp>
          <p:nvSpPr>
            <p:cNvPr id="1121" name=""/>
            <p:cNvSpPr/>
            <p:nvPr/>
          </p:nvSpPr>
          <p:spPr>
            <a:xfrm>
              <a:off x="330120" y="3624120"/>
              <a:ext cx="8457840" cy="253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20840" y="3840840"/>
              <a:ext cx="8307360" cy="2186280"/>
              <a:chOff x="420840" y="3840840"/>
              <a:chExt cx="8307360" cy="2186280"/>
            </a:xfrm>
          </p:grpSpPr>
          <p:sp>
            <p:nvSpPr>
              <p:cNvPr id="1123" name=""/>
              <p:cNvSpPr/>
              <p:nvPr/>
            </p:nvSpPr>
            <p:spPr>
              <a:xfrm>
                <a:off x="695520" y="3840840"/>
                <a:ext cx="8032680" cy="1915200"/>
              </a:xfrm>
              <a:custGeom>
                <a:avLst/>
                <a:gdLst/>
                <a:ahLst/>
                <a:rect l="l" t="t" r="r" b="b"/>
                <a:pathLst>
                  <a:path w="3402" h="1609">
                    <a:moveTo>
                      <a:pt x="0" y="239"/>
                    </a:moveTo>
                    <a:cubicBezTo>
                      <a:pt x="510" y="119"/>
                      <a:pt x="1021" y="0"/>
                      <a:pt x="1408" y="193"/>
                    </a:cubicBezTo>
                    <a:cubicBezTo>
                      <a:pt x="1795" y="386"/>
                      <a:pt x="1991" y="1191"/>
                      <a:pt x="2323" y="1400"/>
                    </a:cubicBezTo>
                    <a:cubicBezTo>
                      <a:pt x="2655" y="1609"/>
                      <a:pt x="3222" y="1438"/>
                      <a:pt x="3402" y="1446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0840" y="4165560"/>
                <a:ext cx="8094960" cy="1861560"/>
              </a:xfrm>
              <a:custGeom>
                <a:avLst/>
                <a:gdLst/>
                <a:ahLst/>
                <a:rect l="l" t="t" r="r" b="b"/>
                <a:pathLst>
                  <a:path w="3402" h="1609">
                    <a:moveTo>
                      <a:pt x="0" y="239"/>
                    </a:moveTo>
                    <a:cubicBezTo>
                      <a:pt x="510" y="119"/>
                      <a:pt x="1021" y="0"/>
                      <a:pt x="1408" y="193"/>
                    </a:cubicBezTo>
                    <a:cubicBezTo>
                      <a:pt x="1795" y="386"/>
                      <a:pt x="1991" y="1191"/>
                      <a:pt x="2323" y="1400"/>
                    </a:cubicBezTo>
                    <a:cubicBezTo>
                      <a:pt x="2655" y="1609"/>
                      <a:pt x="3222" y="1438"/>
                      <a:pt x="3402" y="1446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349200" y="3972600"/>
              <a:ext cx="7992360" cy="1904760"/>
            </a:xfrm>
            <a:custGeom>
              <a:avLst/>
              <a:gdLst/>
              <a:ahLst/>
              <a:rect l="l" t="t" r="r" b="b"/>
              <a:pathLst>
                <a:path w="3776" h="1600">
                  <a:moveTo>
                    <a:pt x="0" y="164"/>
                  </a:moveTo>
                  <a:lnTo>
                    <a:pt x="420" y="311"/>
                  </a:lnTo>
                  <a:lnTo>
                    <a:pt x="1069" y="0"/>
                  </a:lnTo>
                  <a:lnTo>
                    <a:pt x="2093" y="420"/>
                  </a:lnTo>
                  <a:lnTo>
                    <a:pt x="2285" y="1133"/>
                  </a:lnTo>
                  <a:lnTo>
                    <a:pt x="3209" y="1600"/>
                  </a:lnTo>
                  <a:lnTo>
                    <a:pt x="3776" y="13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57720" y="3906000"/>
              <a:ext cx="22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ibre optic c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5399280" y="4298760"/>
              <a:ext cx="121896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97080" y="50169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Light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2535480" y="4178880"/>
              <a:ext cx="831600" cy="88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793800" y="6541920"/>
            <a:ext cx="71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206 Questions 1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9A2-EA61-4037-8713-5DEA7C0C4E6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cause white light is made up of a spectrum of colours of slightly different wavelengths, they all refract at a slightly different 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is causes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ispersion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of the white light into it’s spectrum col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1990800" y="4044960"/>
            <a:ext cx="5657760" cy="217656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888840" y="6415200"/>
            <a:ext cx="72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208 Questions 1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FFD-B353-418A-BB07-6521EB5A333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60240" y="106668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re are two main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v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or converging) lens – this brings the ray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have 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rincipal focu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ehin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he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552600" y="3809880"/>
            <a:ext cx="8178120" cy="2400480"/>
            <a:chOff x="552600" y="3809880"/>
            <a:chExt cx="8178120" cy="2400480"/>
          </a:xfrm>
        </p:grpSpPr>
        <p:sp>
          <p:nvSpPr>
            <p:cNvPr id="1138" name=""/>
            <p:cNvSpPr/>
            <p:nvPr/>
          </p:nvSpPr>
          <p:spPr>
            <a:xfrm>
              <a:off x="552600" y="3809880"/>
              <a:ext cx="8178120" cy="240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8240" y="5010120"/>
              <a:ext cx="7682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35400" y="4317120"/>
              <a:ext cx="786960" cy="1450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067160" y="493128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70120" y="478152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28880" y="4081320"/>
              <a:ext cx="0" cy="19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65800" y="523620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61480" y="558396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70120" y="449568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16280" y="4495680"/>
              <a:ext cx="4050720" cy="8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28880" y="4781520"/>
              <a:ext cx="40636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28880" y="4874040"/>
              <a:ext cx="3936600" cy="35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4628880" y="4667040"/>
              <a:ext cx="3873240" cy="9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01920" y="52387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E72-EC6D-4096-A0F8-2A391B56D2F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06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Wavelength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- The distance from one point on a wave to where it begins to repea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: </a:t>
            </a:r>
            <a:r>
              <a:rPr b="0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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eek letter “lam-da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me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69840" y="3905280"/>
            <a:ext cx="7111800" cy="2130480"/>
            <a:chOff x="969840" y="3905280"/>
            <a:chExt cx="7111800" cy="2130480"/>
          </a:xfrm>
        </p:grpSpPr>
        <p:sp>
          <p:nvSpPr>
            <p:cNvPr id="151" name=""/>
            <p:cNvSpPr/>
            <p:nvPr/>
          </p:nvSpPr>
          <p:spPr>
            <a:xfrm>
              <a:off x="969840" y="3905280"/>
              <a:ext cx="7111800" cy="213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642680" y="4259520"/>
              <a:ext cx="5850360" cy="1550880"/>
              <a:chOff x="1642680" y="4259520"/>
              <a:chExt cx="5850360" cy="1550880"/>
            </a:xfrm>
          </p:grpSpPr>
          <p:sp>
            <p:nvSpPr>
              <p:cNvPr id="153" name=""/>
              <p:cNvSpPr/>
              <p:nvPr/>
            </p:nvSpPr>
            <p:spPr>
              <a:xfrm>
                <a:off x="1642680" y="5032800"/>
                <a:ext cx="29134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42680" y="4259520"/>
                <a:ext cx="2913480" cy="153936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79920" y="5036040"/>
                <a:ext cx="2913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30960" y="4271040"/>
                <a:ext cx="2913120" cy="153936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411280" y="4265280"/>
              <a:ext cx="28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6200" y="4293000"/>
              <a:ext cx="23976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Wave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32A-F11F-4C2D-AE48-096A517F2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309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cave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or diverging) lens – these spread the rays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have 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rinciple focu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f th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507960" y="3637080"/>
            <a:ext cx="8178480" cy="2400120"/>
            <a:chOff x="507960" y="3637080"/>
            <a:chExt cx="8178480" cy="2400120"/>
          </a:xfrm>
        </p:grpSpPr>
        <p:sp>
          <p:nvSpPr>
            <p:cNvPr id="1155" name=""/>
            <p:cNvSpPr/>
            <p:nvPr/>
          </p:nvSpPr>
          <p:spPr>
            <a:xfrm>
              <a:off x="507960" y="3637080"/>
              <a:ext cx="8178480" cy="240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3704040" y="3998880"/>
              <a:ext cx="1883160" cy="1602000"/>
              <a:chOff x="3704040" y="3998880"/>
              <a:chExt cx="1883160" cy="160200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4774680" y="4001040"/>
                <a:ext cx="812520" cy="1599840"/>
                <a:chOff x="4774680" y="4001040"/>
                <a:chExt cx="812520" cy="159984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774680" y="4079520"/>
                  <a:ext cx="786960" cy="1449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168160" y="4001040"/>
                  <a:ext cx="419040" cy="159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04040" y="3998880"/>
                <a:ext cx="812160" cy="1599840"/>
                <a:chOff x="3704040" y="3998880"/>
                <a:chExt cx="812160" cy="159984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>
                  <a:off x="3729240" y="4077360"/>
                  <a:ext cx="786960" cy="1449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>
                  <a:off x="3703680" y="3998880"/>
                  <a:ext cx="418680" cy="159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127040" y="4079520"/>
                <a:ext cx="100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122720" y="5534640"/>
                <a:ext cx="100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2298600" y="475128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01800" y="460116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35000" y="3808440"/>
              <a:ext cx="0" cy="19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97480" y="505620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93160" y="539928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01800" y="431568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685760" y="3708360"/>
              <a:ext cx="267948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4635000" y="4300920"/>
              <a:ext cx="2971800" cy="29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35000" y="5058720"/>
              <a:ext cx="2819160" cy="27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99520" y="50061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9920" y="4830120"/>
              <a:ext cx="7682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926640" y="3715560"/>
              <a:ext cx="6413040" cy="142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736560" y="4315680"/>
              <a:ext cx="6742800" cy="671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 flipV="1">
              <a:off x="723240" y="4672440"/>
              <a:ext cx="6628680" cy="657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6560" y="4444200"/>
              <a:ext cx="6247440" cy="1514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635000" y="5389560"/>
              <a:ext cx="242568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CAC-5695-47D8-A6A1-C4C09D0883C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440" y="1095480"/>
            <a:ext cx="8077320" cy="23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scartes’ and Newton’s formulae still apply as do the ray diagram rules, to find the size, nature and position of the image formed by a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952640" y="3336840"/>
            <a:ext cx="5430960" cy="2949840"/>
            <a:chOff x="1952640" y="3336840"/>
            <a:chExt cx="5430960" cy="2949840"/>
          </a:xfrm>
        </p:grpSpPr>
        <p:sp>
          <p:nvSpPr>
            <p:cNvPr id="1184" name=""/>
            <p:cNvSpPr/>
            <p:nvPr/>
          </p:nvSpPr>
          <p:spPr>
            <a:xfrm flipV="1" rot="10800000">
              <a:off x="1952640" y="3336840"/>
              <a:ext cx="5430960" cy="294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2114280" y="4811760"/>
              <a:ext cx="510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 rot="10800000">
              <a:off x="4389120" y="3960720"/>
              <a:ext cx="522360" cy="1781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49680" y="47228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2223720" y="4168080"/>
              <a:ext cx="4654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53000" y="3670200"/>
              <a:ext cx="0" cy="242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638240" y="4175280"/>
              <a:ext cx="2235240" cy="11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4653000" y="4179960"/>
              <a:ext cx="220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2415960" y="4178160"/>
              <a:ext cx="224316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138400" y="5345280"/>
              <a:ext cx="24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 flipV="1" rot="10800000">
              <a:off x="3142080" y="4209840"/>
              <a:ext cx="10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49840" y="470232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4650840" y="4170240"/>
              <a:ext cx="221796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7" name="" descr=""/>
            <p:cNvPicPr/>
            <p:nvPr/>
          </p:nvPicPr>
          <p:blipFill>
            <a:blip r:embed="rId1"/>
            <a:stretch/>
          </p:blipFill>
          <p:spPr>
            <a:xfrm flipH="1">
              <a:off x="6660720" y="3760200"/>
              <a:ext cx="2811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2581200" y="4803480"/>
              <a:ext cx="23832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5257800" y="4989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FDE-0F78-4DA3-A706-E365617AC3C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te: When using Newton’s formula for a convex lens, S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s the distance from object t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ocus, and S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rom image t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using Newton’s formula for a concave lens, S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s the distance from object t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ocus, and S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rom image t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219320" y="6343560"/>
            <a:ext cx="675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210 Questions 1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340-2FFA-4713-BF6F-CA22EAF160C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Wave spee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- the speed of wave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: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ms</a:t>
            </a:r>
            <a:r>
              <a:rPr b="0" lang="en-AU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Period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the time it takes one wavelength to pass a give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: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B4C-B668-4FFB-952F-15C9ACC50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- the number of waves that pass a given point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 :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Hertz Hz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or cycles per second 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5200" y="1599840"/>
            <a:ext cx="371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ote: Frequency and Period are inverses of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e. f =1/T  or                          T = 1/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A9A-0F44-443F-8855-0BD7A1F8BE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0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2680" y="1198080"/>
            <a:ext cx="3809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of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Compressio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- part of a longitudinal wave where the particles are squash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84600" y="1174680"/>
            <a:ext cx="3810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of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Rarefactio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- part of a longitudinal wave where the particles are sprea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58880" y="3870360"/>
            <a:ext cx="6197400" cy="2243160"/>
            <a:chOff x="1658880" y="3870360"/>
            <a:chExt cx="6197400" cy="2243160"/>
          </a:xfrm>
        </p:grpSpPr>
        <p:sp>
          <p:nvSpPr>
            <p:cNvPr id="169" name=""/>
            <p:cNvSpPr/>
            <p:nvPr/>
          </p:nvSpPr>
          <p:spPr>
            <a:xfrm>
              <a:off x="1658880" y="3870360"/>
              <a:ext cx="6197400" cy="224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225520" y="4539600"/>
              <a:ext cx="4822560" cy="978480"/>
              <a:chOff x="2225520" y="4539600"/>
              <a:chExt cx="4822560" cy="97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225520" y="4539600"/>
                <a:ext cx="2111400" cy="978480"/>
                <a:chOff x="2225520" y="4539600"/>
                <a:chExt cx="2111400" cy="9784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2255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1736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2659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12516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468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72384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3369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936680" y="4539600"/>
                <a:ext cx="2111400" cy="978480"/>
                <a:chOff x="4936680" y="4539600"/>
                <a:chExt cx="2111400" cy="9784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93668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5285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7708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8363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13584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43500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04808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462040" y="4308840"/>
              <a:ext cx="28602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Com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06800" y="5412960"/>
              <a:ext cx="206784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Raref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9BB-1AEF-49FC-8A49-3A947E1F5F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0:23Z</dcterms:created>
  <dc:creator>Cashmere High School</dc:creator>
  <dc:description/>
  <dc:language>en-US</dc:language>
  <cp:lastModifiedBy>Administrator</cp:lastModifiedBy>
  <cp:lastPrinted>2003-11-11T21:01:29Z</cp:lastPrinted>
  <dcterms:modified xsi:type="dcterms:W3CDTF">2005-05-10T04:31:44Z</dcterms:modified>
  <cp:revision>31</cp:revision>
  <dc:subject/>
  <dc:title>Light &amp; Waves</dc:title>
</cp:coreProperties>
</file>